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gif" ContentType="image/gif"/>
  <Override PartName="/ppt/media/image11.png" ContentType="image/png"/>
  <Override PartName="/ppt/media/image19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4.png" ContentType="image/png"/>
  <Override PartName="/ppt/media/image5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4E52-830D-4146-92ED-B0F594991BF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5CEE1-C320-45F7-9E70-6B60690ADDC6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7D45-2054-47C4-89EF-1274D8619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A5B5-EB3C-42A2-902A-9E0C7F365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74AE-BE30-473C-9F6C-375A3B829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3B4A-00A4-4506-888C-77FD25A39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30A9-6C0E-4F83-A12C-AC39828F9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9DB4-E28A-49F4-9E15-621CCBB71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6B27-97DC-45F7-803D-0ABEA9449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91B3-C7B4-4347-961A-6675468F9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1C4E-B52C-4870-9A34-B0FF39F2A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2C63-8D6F-40F2-B22E-CF9B0710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9E93-F129-4D3C-B1CF-F2380ED1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9057-0CB1-4DD1-AD70-D970A541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736C1-958F-4B66-9C61-0FEBF3AD391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01159-B84A-4284-BE48-63AAE6E0EF2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B573A-FFAB-4061-88D4-A169EA5BCEB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ACCIONA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es lide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G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“no” a las cosa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pequeñ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9" name="Picture 8" descr="http://www.clipartlord.com/wp-content/uploads/2014/05/hospital6.png"/>
          <p:cNvPicPr/>
          <p:nvPr/>
        </p:nvPicPr>
        <p:blipFill>
          <a:blip r:embed="rId1"/>
          <a:stretch/>
        </p:blipFill>
        <p:spPr>
          <a:xfrm>
            <a:off x="4753080" y="692280"/>
            <a:ext cx="3600360" cy="2997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2"/>
          <a:stretch/>
        </p:blipFill>
        <p:spPr>
          <a:xfrm>
            <a:off x="611280" y="3800520"/>
            <a:ext cx="273672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E575B-7220-4CC0-A022-A38E3CEB639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ga “no”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DE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ERSO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sponda en términ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MEJOR INTERÉ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ara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persona que lo pid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fier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proponga una alternativa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omo decir “No” con gracia…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84" name="Group 2"/>
          <p:cNvGrpSpPr/>
          <p:nvPr/>
        </p:nvGrpSpPr>
        <p:grpSpPr>
          <a:xfrm>
            <a:off x="6519960" y="1143000"/>
            <a:ext cx="2590560" cy="2489040"/>
            <a:chOff x="6519960" y="1143000"/>
            <a:chExt cx="2590560" cy="2489040"/>
          </a:xfrm>
        </p:grpSpPr>
        <p:pic>
          <p:nvPicPr>
            <p:cNvPr id="85" name="Picture 4" descr=""/>
            <p:cNvPicPr/>
            <p:nvPr/>
          </p:nvPicPr>
          <p:blipFill>
            <a:blip r:embed="rId1"/>
            <a:stretch/>
          </p:blipFill>
          <p:spPr>
            <a:xfrm>
              <a:off x="6519960" y="1143000"/>
              <a:ext cx="2590560" cy="24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Rectangle 1"/>
            <p:cNvSpPr/>
            <p:nvPr/>
          </p:nvSpPr>
          <p:spPr>
            <a:xfrm>
              <a:off x="8337600" y="1611000"/>
              <a:ext cx="409320" cy="86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7" name="Rectangle 6"/>
            <p:cNvSpPr/>
            <p:nvPr/>
          </p:nvSpPr>
          <p:spPr>
            <a:xfrm rot="20508000">
              <a:off x="8324640" y="1655640"/>
              <a:ext cx="26496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61379-9B5F-4B57-ABE3-10B0EF7C714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65564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35480" indent="-73548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ga listas de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QU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DEBO HACER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 Establezca sus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IORIDAD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Evite el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ERFECCIONIS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1" name="Picture 17" descr="j0234760"/>
          <p:cNvPicPr/>
          <p:nvPr/>
        </p:nvPicPr>
        <p:blipFill>
          <a:blip r:embed="rId1"/>
          <a:stretch/>
        </p:blipFill>
        <p:spPr>
          <a:xfrm>
            <a:off x="90360" y="4680"/>
            <a:ext cx="1312920" cy="1656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http://www.clker.com/cliparts/1/3/a/a/12284172421897139812CoD_fsfe_Checklist_icon.svg.hi.png"/>
          <p:cNvPicPr/>
          <p:nvPr/>
        </p:nvPicPr>
        <p:blipFill>
          <a:blip r:embed="rId2"/>
          <a:srcRect l="15140" t="10295" r="10611" b="8610"/>
          <a:stretch/>
        </p:blipFill>
        <p:spPr>
          <a:xfrm>
            <a:off x="6443640" y="1268280"/>
            <a:ext cx="2016000" cy="2198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http://cauldronsandcupcakes.files.wordpress.com/2013/09/list.jpg?w=584"/>
          <p:cNvPicPr/>
          <p:nvPr/>
        </p:nvPicPr>
        <p:blipFill>
          <a:blip r:embed="rId3"/>
          <a:stretch/>
        </p:blipFill>
        <p:spPr>
          <a:xfrm>
            <a:off x="590400" y="3595680"/>
            <a:ext cx="1820880" cy="1704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4"/>
          <a:stretch/>
        </p:blipFill>
        <p:spPr>
          <a:xfrm>
            <a:off x="6372360" y="5146560"/>
            <a:ext cx="208728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C1D8A-EC62-4457-98D2-FCACD567B6B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UESTION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to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 Déle la bienvenida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a la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ENSIÓN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vite el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SORDEN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0" y="-243000"/>
            <a:ext cx="914400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8" name="Picture 2" descr="http://images.clipartpanda.com/question-Kin57o5iq.gif"/>
          <p:cNvPicPr/>
          <p:nvPr/>
        </p:nvPicPr>
        <p:blipFill>
          <a:blip r:embed="rId1"/>
          <a:srcRect l="0" t="0" r="0" b="33035"/>
          <a:stretch/>
        </p:blipFill>
        <p:spPr>
          <a:xfrm>
            <a:off x="7093080" y="162000"/>
            <a:ext cx="1800000" cy="2936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ttp://thumbs.dreamstime.com/thumblarge_551/1288410346h4TAEa.jpg"/>
          <p:cNvPicPr/>
          <p:nvPr/>
        </p:nvPicPr>
        <p:blipFill>
          <a:blip r:embed="rId2"/>
          <a:stretch/>
        </p:blipFill>
        <p:spPr>
          <a:xfrm>
            <a:off x="539640" y="2352600"/>
            <a:ext cx="2594160" cy="2781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http://www.buzzle.com/images/cliparts/messy-desk.jpg"/>
          <p:cNvPicPr/>
          <p:nvPr/>
        </p:nvPicPr>
        <p:blipFill>
          <a:blip r:embed="rId3"/>
          <a:stretch/>
        </p:blipFill>
        <p:spPr>
          <a:xfrm>
            <a:off x="5651640" y="499104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E35D3-F843-44DB-9066-133DEE68F1A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108000" y="765000"/>
            <a:ext cx="914400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Evi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OSPONE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Controle la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ERRUPCIONE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y DISTRACCION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04" name="Group 3"/>
          <p:cNvGrpSpPr/>
          <p:nvPr/>
        </p:nvGrpSpPr>
        <p:grpSpPr>
          <a:xfrm>
            <a:off x="5940360" y="1082520"/>
            <a:ext cx="3024360" cy="1525680"/>
            <a:chOff x="5940360" y="1082520"/>
            <a:chExt cx="3024360" cy="1525680"/>
          </a:xfrm>
        </p:grpSpPr>
        <p:sp>
          <p:nvSpPr>
            <p:cNvPr id="105" name="Rectangle 2"/>
            <p:cNvSpPr/>
            <p:nvPr/>
          </p:nvSpPr>
          <p:spPr>
            <a:xfrm>
              <a:off x="5940360" y="1082520"/>
              <a:ext cx="3024360" cy="1525680"/>
            </a:xfrm>
            <a:prstGeom prst="rect">
              <a:avLst/>
            </a:prstGeom>
            <a:solidFill>
              <a:srgbClr val="33cccc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6" name="TextBox 1"/>
            <p:cNvSpPr/>
            <p:nvPr/>
          </p:nvSpPr>
          <p:spPr>
            <a:xfrm>
              <a:off x="6015960" y="1604160"/>
              <a:ext cx="287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 Extra Bold"/>
                  <a:ea typeface="Gill Sans Extra Bold"/>
                </a:rPr>
                <a:t>POSPONER</a:t>
              </a: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07" name="Picture 6" descr=""/>
            <p:cNvPicPr/>
            <p:nvPr/>
          </p:nvPicPr>
          <p:blipFill>
            <a:blip r:embed="rId1"/>
            <a:stretch/>
          </p:blipFill>
          <p:spPr>
            <a:xfrm>
              <a:off x="6474600" y="1082520"/>
              <a:ext cx="1955880" cy="152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8" name="Picture 14" descr="http://www.christart.com/IMAGES-art9ab/clipart/509/avoid-distractions.png"/>
          <p:cNvPicPr/>
          <p:nvPr/>
        </p:nvPicPr>
        <p:blipFill>
          <a:blip r:embed="rId2"/>
          <a:srcRect l="0" t="33728" r="37516" b="0"/>
          <a:stretch/>
        </p:blipFill>
        <p:spPr>
          <a:xfrm>
            <a:off x="277920" y="4149720"/>
            <a:ext cx="280332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603C8-3D96-43E9-87E1-D310C21F279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179280" y="10396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9. Delegue su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BILIDADE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. Use un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LENDAR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rcRect l="11151" t="4694" r="4346" b="10560"/>
          <a:stretch/>
        </p:blipFill>
        <p:spPr>
          <a:xfrm>
            <a:off x="4932360" y="76356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324000" y="3997440"/>
            <a:ext cx="325584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48913-6195-492B-A5ED-3C74A18025F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Rectangle 21"/>
          <p:cNvSpPr/>
          <p:nvPr/>
        </p:nvSpPr>
        <p:spPr>
          <a:xfrm>
            <a:off x="0" y="105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valuación: Tres preguntas sabias…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¿QUÉ SE REQUIERE DE MI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¿QUÉ ES LO QUE ME DA LOS MEJORES RESULTADOS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 ¿QUÉ ES LO QUE ME DA MAYO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RECOMPENSA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D45AA-B8FB-4E26-8670-2440E349FCA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Rectangle 21"/>
          <p:cNvSpPr/>
          <p:nvPr/>
        </p:nvSpPr>
        <p:spPr>
          <a:xfrm>
            <a:off x="324000" y="429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2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recursos para compartir los talleres están aquí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ww.MieddRecursos.MesoamericaRegion.org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Correo: Mcyr@MesoamericaRegion.org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2" descr="Map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3851280" y="28440"/>
            <a:ext cx="199548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D417A-4140-4A4B-A6C9-401F9D24610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0" y="6922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COMENTARIOS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O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PREGUNTAS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1890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Prioridades y toma de decisiones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ciendo rendir el tiemp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Garamond"/>
              </a:rPr>
              <a:t>(Lección #6, página 34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95E19-000A-4218-9684-5FEF2AECA7C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1258920" y="2205000"/>
            <a:ext cx="644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!!Guías ciegos, que coláis el mosquito, y tragáis el camello!!”  </a:t>
            </a:r>
            <a:br>
              <a:rPr sz="54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Mateo 23:24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217E5-C39A-4C0F-9782-5C9623AABD6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-1440" y="1197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Garamond"/>
              </a:rPr>
              <a:t>Respuestas bíblicas sobre prioridades…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4" name="Picture 5" descr="http://www.clipartbest.com/cliparts/di6/7qX/di67qX4i9.jpeg"/>
          <p:cNvPicPr/>
          <p:nvPr/>
        </p:nvPicPr>
        <p:blipFill>
          <a:blip r:embed="rId1"/>
          <a:stretch/>
        </p:blipFill>
        <p:spPr>
          <a:xfrm>
            <a:off x="2987640" y="3500280"/>
            <a:ext cx="33098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4766-245C-47BC-9C4E-835FF0C70F7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0" y="40766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evantándose muy de mañana, siendo aún muy oscuro, salió y se fue a un lugar desierto, y allí oraba. Y le buscó Simón, y los que con él estaban; y hallándole, le dijeron: Todos te buscan. Él les dijo: Vamos a los lugares vecinos, para que predique también allí; porque para esto he venido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38EFE-2A34-4F26-BC01-21A02401FCA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250920" y="3860640"/>
            <a:ext cx="493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ff"/>
                </a:solidFill>
                <a:latin typeface="Garamond"/>
              </a:rPr>
              <a:t>El tiempo con su padre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1" name="Picture 6" descr="http://www.thecoloringpics.com/images/2014/06/Cherish-Your-Church-Sunday-School-Lessons-for-the-Home.jpg"/>
          <p:cNvPicPr/>
          <p:nvPr/>
        </p:nvPicPr>
        <p:blipFill>
          <a:blip r:embed="rId1"/>
          <a:stretch/>
        </p:blipFill>
        <p:spPr>
          <a:xfrm>
            <a:off x="5796000" y="2743200"/>
            <a:ext cx="3208320" cy="402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84D01-F9FA-45C0-8BCC-8542227DE4D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¿Cuáles son las prioridades de los Cristianos? </a:t>
            </a:r>
            <a:r>
              <a:rPr b="1" lang="es-GT" sz="3600" spc="-1" strike="noStrike">
                <a:solidFill>
                  <a:srgbClr val="ffffff"/>
                </a:solidFill>
                <a:latin typeface="Garamond"/>
              </a:rPr>
              <a:t>(Lucas 10:39-42, Maria y Marta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769760"/>
            <a:ext cx="9144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lación con Di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Lucas 10:39-42, Matt. 22:37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400" spc="-1" strike="noStrike">
                <a:solidFill>
                  <a:srgbClr val="ffffff"/>
                </a:solidFill>
                <a:latin typeface="Garamond"/>
              </a:rPr>
              <a:t>Relación con su esposa(o)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Relaciónes con sus hij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Tu salud – fisica, mental, social, emocional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Cor. 6:19 – cuerpo es un templo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ff"/>
                </a:solidFill>
                <a:latin typeface="Garamond"/>
              </a:rPr>
              <a:t>Ministerio en: Trabajo / Escuela / Iglesia / Etc.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 (Matt. 28:18-19, Acts 6:2-4, etc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A4BE6-139E-4758-8DB0-05F12FD4137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(Pagina 36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69056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ACTIV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quivale a log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Trabaje más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TELIGENTEMENT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no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más duro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5364000" y="1547640"/>
            <a:ext cx="3630600" cy="2818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http://ec.l.thumbs.canstockphoto.com/canstock15210914.jpg"/>
          <p:cNvPicPr/>
          <p:nvPr/>
        </p:nvPicPr>
        <p:blipFill>
          <a:blip r:embed="rId2"/>
          <a:stretch/>
        </p:blipFill>
        <p:spPr>
          <a:xfrm>
            <a:off x="179280" y="3836880"/>
            <a:ext cx="230508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A01AE-0E85-4F1D-B4EA-5C299EC7192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GANIC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agoni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estánque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. Póngal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ORARI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a sus priorida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3" name="Picture 6" descr="http://tortolatailspin.onmason.com/files/2012/09/file_cabinet.gif"/>
          <p:cNvPicPr/>
          <p:nvPr/>
        </p:nvPicPr>
        <p:blipFill>
          <a:blip r:embed="rId1"/>
          <a:stretch/>
        </p:blipFill>
        <p:spPr>
          <a:xfrm>
            <a:off x="6012000" y="901800"/>
            <a:ext cx="1439640" cy="218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http://sr.photos3.fotosearch.com/bthumb/CSP/CSP551/k5510289.jpg"/>
          <p:cNvPicPr/>
          <p:nvPr/>
        </p:nvPicPr>
        <p:blipFill>
          <a:blip r:embed="rId2"/>
          <a:stretch/>
        </p:blipFill>
        <p:spPr>
          <a:xfrm>
            <a:off x="324000" y="2060640"/>
            <a:ext cx="2877840" cy="2878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http://www.anglaisfacile.com/cgi2/myexam/images2/26318.gif"/>
          <p:cNvPicPr/>
          <p:nvPr/>
        </p:nvPicPr>
        <p:blipFill>
          <a:blip r:embed="rId3"/>
          <a:stretch/>
        </p:blipFill>
        <p:spPr>
          <a:xfrm>
            <a:off x="5172120" y="4694400"/>
            <a:ext cx="229860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4T00:39:42Z</dcterms:modified>
  <cp:revision>90</cp:revision>
  <dc:subject/>
  <dc:title>PowerPoint Presentation</dc:title>
</cp:coreProperties>
</file>