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045C-A263-4134-A7D5-4554E5BFBD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BBE4-24FC-4698-9433-4C2B0E2AD87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8EF06-5852-4FA8-B4ED-9A1ECE146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03DC8-29AB-41B1-AADF-D869D6F3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EE84C-28C1-4054-A10D-AEDB72291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38400-97CD-4394-A793-E0A42EF17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C409-0341-47DB-A3A6-DCF61F21C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F553-019B-458F-A98F-11AEDC8F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A992-A516-4BB3-99EC-1F737B60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2921-B7B5-4CCC-9A62-846BA165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3842-399D-428F-A21A-33E92385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B11D-5CAF-4F92-8E79-B53E47D23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07CB-B7B9-4A7B-9BBF-8A8E21BA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B4EDF-E1FF-4712-9897-4A60C7AC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B004-A20A-4675-957B-F2A9BE86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199A-A4FC-4B02-A8B0-FCA67DBB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32A0A-70ED-4E9C-A7F6-BE897C60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874E-0F92-4096-8587-858A45124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BE500-EAD0-4BBA-ACE7-DFB628D11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98DE4-B167-4025-B428-E2B3C211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9249B-7686-4D3A-830D-09205DBF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D3579-461B-4D5E-801C-7114327C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52966-C0FD-4CD3-A363-C5DF7A08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392D5-5E46-45BA-B60F-5C539FE6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EE0C1-2209-4615-A7A0-176CC5E2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892D7-12E8-4B0E-9B53-76A3C3EC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9A656-4A7F-499F-BEC4-4A42F15289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2450-6950-45C8-9136-932AFDAFFD8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72F0-3932-4FB8-A91A-09414B4692A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0E65-8F31-4D8F-8EF9-20244380204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L SAMARITAN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ue despreci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abía lo que s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entía ser ignor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o al hombre como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UNA PERSONA PARA AMAR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http://biblecraftsandactivities.com/wp-content/uploads/2013/07/GoodSamaritan-coloring_sermons4kids.gif"/>
          <p:cNvPicPr/>
          <p:nvPr/>
        </p:nvPicPr>
        <p:blipFill>
          <a:blip r:embed="rId1"/>
          <a:stretch/>
        </p:blipFill>
        <p:spPr>
          <a:xfrm>
            <a:off x="5929200" y="722160"/>
            <a:ext cx="318456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308D-B4A8-4735-8305-561D2111240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800" spc="-1" strike="noStrike">
                <a:solidFill>
                  <a:srgbClr val="ffffff"/>
                </a:solidFill>
                <a:latin typeface="Garamond"/>
              </a:rPr>
              <a:t>PUDIMOS ELIGIR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VI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AMAR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200" spc="-1" strike="noStrike">
                <a:solidFill>
                  <a:srgbClr val="ffffff"/>
                </a:solidFill>
                <a:latin typeface="Garamond"/>
              </a:rPr>
              <a:t>NUESTRA MET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La meta es dejar atrás sus fallas y ver sus necesidad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http://images.clipartpanda.com/choice-clipart-fork-choice-hi.png"/>
          <p:cNvPicPr/>
          <p:nvPr/>
        </p:nvPicPr>
        <p:blipFill>
          <a:blip r:embed="rId1"/>
          <a:stretch/>
        </p:blipFill>
        <p:spPr>
          <a:xfrm>
            <a:off x="5003640" y="189000"/>
            <a:ext cx="3822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371A-E9CB-4A86-8288-F2A260D33AA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0" y="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ristianismo 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RELACIÓNE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39640" y="1916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na relación vertical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Dio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Relaciónes horizontales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person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0" y="4294080"/>
            <a:ext cx="655308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Ellos sabrén que somos Cristianos por nuestras</a:t>
            </a: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…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RELACIONES DE AMOR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15" descr="j0198096"/>
          <p:cNvPicPr/>
          <p:nvPr/>
        </p:nvPicPr>
        <p:blipFill>
          <a:blip r:embed="rId1"/>
          <a:stretch/>
        </p:blipFill>
        <p:spPr>
          <a:xfrm>
            <a:off x="6553080" y="1720800"/>
            <a:ext cx="241164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5407-A288-4C06-934E-EE5EA595EB0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Piense en las personas en su vida 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que son las más difíciles de amar. ¿Por qué son difíciles de amar? ¿Cómo las vemos?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¿Cómo puede usted empezar a ver a la gente de la manera en la que el samaritano vió al hombre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5D1D-6CB7-4163-ADEF-28FE4193098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istianismo es Relació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A la gente no le importa mucho cuanto sabe usted, hasta que saben cuanto se interesa en ellos.”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- Dr. John C. Maxwel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2C66-9D75-4427-9073-FFBAD6C166D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Una definición de liderazgo espiritu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219320" y="275256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39640" y="1557360"/>
            <a:ext cx="8305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Garamond"/>
              </a:rPr>
              <a:t>AQUEL QUE ASUMA RESPONSABILIDAD POR LA SALUD Y EL DESARROLLO DE SUS RELACIONE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53B0-147C-4830-85D7-7C9E6F3C5C3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4080" y="1393920"/>
            <a:ext cx="898992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NFITRIÓN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 La analogía del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OCTOR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uatro palabras para ilustrar los roles del líd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6" descr="http://misc.phillipmartin.info/misc_welcome2.gif"/>
          <p:cNvPicPr/>
          <p:nvPr/>
        </p:nvPicPr>
        <p:blipFill>
          <a:blip r:embed="rId1"/>
          <a:srcRect l="0" t="0" r="0" b="5232"/>
          <a:stretch/>
        </p:blipFill>
        <p:spPr>
          <a:xfrm>
            <a:off x="4788000" y="585720"/>
            <a:ext cx="2952720" cy="3459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rcRect l="28613" t="0" r="29542" b="0"/>
          <a:stretch/>
        </p:blipFill>
        <p:spPr>
          <a:xfrm>
            <a:off x="795240" y="3030480"/>
            <a:ext cx="15843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9A82-F059-450C-A05B-7F0C81557B3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4080" y="1413000"/>
            <a:ext cx="8989920" cy="45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EJER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GUÍA DE TURIST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tro palabras para ilustra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4427640" y="957240"/>
            <a:ext cx="4181400" cy="2898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29210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7B73-A988-4D6E-BD74-6513113AC5B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0" y="162864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LAS PERSONAS SO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NSEGURA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ÉLES CONFIANZ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rsonas heridas hieren personas. Personas seguras dan seguridad a las persona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9" descr="http://images.clipartof.com/thumbnails/227344-Royalty-Free-RF-Clipart-Illustration-Of-A-Somber-Moodie-Character-Looking-At-His-Reflection-In-A-Mirror.jpg"/>
          <p:cNvPicPr/>
          <p:nvPr/>
        </p:nvPicPr>
        <p:blipFill>
          <a:blip r:embed="rId1"/>
          <a:stretch/>
        </p:blipFill>
        <p:spPr>
          <a:xfrm>
            <a:off x="5764320" y="981000"/>
            <a:ext cx="2960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8CC8-526D-422F-847C-5790A9BA867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1052640"/>
            <a:ext cx="914400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las personas les gust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ir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PECIAL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ÓNREL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ndo usted afirme y honre a alguien con sus palabras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acerlo inceramente, específicamente, públicamente, personalmen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8" descr="http://www.presentationmagazine.com/newimages/rally-speech-510.jpg"/>
          <p:cNvPicPr/>
          <p:nvPr/>
        </p:nvPicPr>
        <p:blipFill>
          <a:blip r:embed="rId1"/>
          <a:stretch/>
        </p:blipFill>
        <p:spPr>
          <a:xfrm>
            <a:off x="5796000" y="836640"/>
            <a:ext cx="2781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CA93-E21C-46CB-96FC-67D9B944C24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ección #5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ultivando la habilidad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de tratar con la gente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rol vital de las relaciones en el liderazgo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2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D23C-23FD-43E7-9C2D-B9AD6384039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620640"/>
            <a:ext cx="9144000" cy="47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s personas buscan un mej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e5e5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ÉLES ESPERANZA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clave para hoy es creer en el mañan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rcRect l="7405" t="9629" r="9923" b="10722"/>
          <a:stretch/>
        </p:blipFill>
        <p:spPr>
          <a:xfrm>
            <a:off x="2843280" y="4149720"/>
            <a:ext cx="61624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E3E25-B65D-43A7-B8CE-CED7241A691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981000"/>
            <a:ext cx="9144000" cy="68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 La gente necesita se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NTENDID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ÚCHEL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hacer conexión co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tros, entienda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llaves” de su coraz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¿De qué platica, lamenta, sueña, alegría, planea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8812" t="0" r="9876" b="0"/>
          <a:stretch/>
        </p:blipFill>
        <p:spPr>
          <a:xfrm>
            <a:off x="6394320" y="1773360"/>
            <a:ext cx="2451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359C-AA0D-4B60-A5F3-BBC4740E5B1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620640"/>
            <a:ext cx="9144000" cy="77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La gente necesit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RECCIÓ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ue” por ell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mayoría de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ersonas puede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ar el barco; el líder ayuda a visualizar el curs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deb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be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i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n 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mostra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373720" y="69228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E12A-EE0A-42DF-B590-E5F575DCD8D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1031"/>
          <p:cNvSpPr/>
          <p:nvPr/>
        </p:nvSpPr>
        <p:spPr>
          <a:xfrm>
            <a:off x="0" y="97488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La gente está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ECESITADA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ble primer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 sus necesidad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gente necesita ser ministrada antes de que puedan ministr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3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8985" t="3697" r="0" b="14665"/>
          <a:stretch/>
        </p:blipFill>
        <p:spPr>
          <a:xfrm>
            <a:off x="5219640" y="944640"/>
            <a:ext cx="3836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8E65-B1D9-4ECF-AB47-2937472B9D5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0" y="907920"/>
            <a:ext cx="914400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La gen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SE DEPRIM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DÉLES ÁNI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5364000" y="2832120"/>
            <a:ext cx="35481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8511-79E8-4F56-B234-E0E081EBAF9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0" y="836640"/>
            <a:ext cx="91440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La gente quier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RIUNF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YÚDELES A GAN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xtiéndase y ayude a otros a alcanzar sus metas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6" descr="http://images.clipartpanda.com/request-clipart-first-prize-winner-form-microsoft-clip-art.png"/>
          <p:cNvPicPr/>
          <p:nvPr/>
        </p:nvPicPr>
        <p:blipFill>
          <a:blip r:embed="rId1"/>
          <a:stretch/>
        </p:blipFill>
        <p:spPr>
          <a:xfrm>
            <a:off x="6084720" y="836640"/>
            <a:ext cx="2862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699E-FBAE-4233-A995-54C5C5F06CD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0" y="907920"/>
            <a:ext cx="914400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La gente dese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RELACIONE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ovéales un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munida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actique el principio del 101% con la gente. Encuentre el 1% que usted tiene en común con alguien y déle el 100% de su atenci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10" descr="http://www.clker.com/cliparts/3/v/J/S/q/f/community-symbol-md.png"/>
          <p:cNvPicPr/>
          <p:nvPr/>
        </p:nvPicPr>
        <p:blipFill>
          <a:blip r:embed="rId1"/>
          <a:stretch/>
        </p:blipFill>
        <p:spPr>
          <a:xfrm>
            <a:off x="4387680" y="1268280"/>
            <a:ext cx="45831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636480"/>
            <a:ext cx="91440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. La gente busc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ODELO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gui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A UN EJEMPL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Gente Hace Lo Que V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diquen el Evangelio en todo tiempo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i es necesario, usen las palabras.”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an Francisc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s posible que usted es la unica Bibli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 vecino leerá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 Corintios 11:1 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“Sed imitadores de mí, así como yo de Cristo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8" descr="http://sweetclipart.com/multisite/sweetclipart/files/foot_prints_walking.png"/>
          <p:cNvPicPr/>
          <p:nvPr/>
        </p:nvPicPr>
        <p:blipFill>
          <a:blip r:embed="rId1"/>
          <a:stretch/>
        </p:blipFill>
        <p:spPr>
          <a:xfrm>
            <a:off x="7610400" y="630360"/>
            <a:ext cx="14112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9BC4-3FB6-42B9-8DC3-66B0117C327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DFBD-B9AC-49F8-A405-AA931271DB0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Garamond"/>
              </a:rPr>
              <a:t>La base del liderazgo son las personas</a:t>
            </a:r>
            <a:br>
              <a:rPr sz="4000"/>
            </a:b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50920" y="981000"/>
            <a:ext cx="856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Aquél que cree que lidera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pero no tiene seguidores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tan solo está dando un paseo”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Picture 10" descr="http://sr.photos2.fotosearch.com/bthumb/CSP/CSP094/k0945302.jpg"/>
          <p:cNvPicPr/>
          <p:nvPr/>
        </p:nvPicPr>
        <p:blipFill>
          <a:blip r:embed="rId1"/>
          <a:stretch/>
        </p:blipFill>
        <p:spPr>
          <a:xfrm>
            <a:off x="1987560" y="3621240"/>
            <a:ext cx="51768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45B9-0CE5-4DAC-9C70-69E09FD2395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uatro verdades acerca del liderazgo y la g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0" y="1413000"/>
            <a:ext cx="9144000" cy="64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 personas son 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ESOR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ás preciado de la igles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El bien más importante de un líder es su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BIL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tratar con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Un buen líder puede liderar varios grupos porque el liderazgo se trata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Usted puede tener habilidad para tratar con las personas y no ser un bue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Í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pero no puede ser un buen líder sin tener habilidad para tratar con las person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AE09-F0CF-4DBD-AC2B-248728BBA1F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7000" y="563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Lucas 10:30-37 -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“¿Quién es mi prójimo?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79800" y="1844640"/>
            <a:ext cx="514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ffffff"/>
                </a:solidFill>
                <a:latin typeface="Garamond"/>
              </a:rPr>
              <a:t>Jesus enseñó que las relaciones y el ministerio no están circunscritos a su círculo inmediato de amig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6" descr="http://www.clipsahoy.com/clipart3/as5744.gif"/>
          <p:cNvPicPr/>
          <p:nvPr/>
        </p:nvPicPr>
        <p:blipFill>
          <a:blip r:embed="rId1"/>
          <a:stretch/>
        </p:blipFill>
        <p:spPr>
          <a:xfrm>
            <a:off x="108000" y="2357280"/>
            <a:ext cx="379404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6DC8-FA5C-4DD6-96AB-69F865DA4E4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Jesus enseñó que las relaciones con otros son mas importantes que muchas actividades espirituales que practicamos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(Mateo 5:23-24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059FB-39A0-4360-8F6C-4309CDD71E8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76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Tambien, </a:t>
            </a:r>
            <a:r>
              <a:rPr b="1" lang="en-ZA" sz="4400" spc="-1" strike="noStrike">
                <a:solidFill>
                  <a:srgbClr val="e5e5ff"/>
                </a:solidFill>
                <a:latin typeface="Garamond"/>
              </a:rPr>
              <a:t>Jesus enseñó que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Garamond"/>
              </a:rPr>
              <a:t>La manera como se ve a sí mismo y otros es la manera como usted sirve a la gente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6CF5-49CD-4680-ACD1-96A9E75CD91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ADR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aron a la gent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nipularon a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eron al hombre como una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VÍCTIMA PARA 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http://fm99.com/wp-content/blogs.dir/2/files/2013/05/robber.jpg"/>
          <p:cNvPicPr/>
          <p:nvPr/>
        </p:nvPicPr>
        <p:blipFill>
          <a:blip r:embed="rId1"/>
          <a:stretch/>
        </p:blipFill>
        <p:spPr>
          <a:xfrm>
            <a:off x="5651640" y="189000"/>
            <a:ext cx="3333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7DAB-7DAB-4EF1-B6E7-4CCCFCEC87F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SACERDOT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Guardaban la ley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ran pur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eron al hombre como un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OBLEMA PARA EVIT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http://sr.photos3.fotosearch.com/bthumb/CSP/CSP993/k15485619.jpg"/>
          <p:cNvPicPr/>
          <p:nvPr/>
        </p:nvPicPr>
        <p:blipFill>
          <a:blip r:embed="rId1"/>
          <a:stretch/>
        </p:blipFill>
        <p:spPr>
          <a:xfrm>
            <a:off x="6443640" y="44280"/>
            <a:ext cx="266868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59:28Z</dcterms:modified>
  <cp:revision>90</cp:revision>
  <dc:subject/>
  <dc:title>PowerPoint Presentation</dc:title>
</cp:coreProperties>
</file>