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B1D45-120F-4FF0-BC8E-E234C6F1D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8579B-F82B-4B19-932C-9BDDF9C9F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B5998-5235-4F2C-8B19-F744735C7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8586F-595B-42A6-B5C1-0B26F4AAE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9C116-2206-4975-B3BB-FA3AE5B7B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11BE5-5B03-4C8C-A045-D372BC776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C51BD-E21B-48D8-9327-1D8A5B7B1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62940-63E5-4F95-8A96-D4D528021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7A766-D202-4F6C-BC6F-56B09F2A1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E46D8-9612-4541-9107-33884E9CD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DD128-1856-4B09-9024-9859F24D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72082-1218-4EB0-A2CC-48918620A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8C95E-8D32-48A6-A0EE-4BF5936E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3A571-6BD6-4F81-AFD1-EE3D56C6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C6CBC-8A2D-41C4-A7A0-58C8C2CE7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2F21D-40CB-42DE-A3EC-2BC5590D5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92F3C-7B85-4DA9-A0B8-542CCE71F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83347-CCB8-4A00-97E2-D2D58ADC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3E597-B015-42F5-948C-7B767EC94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DB958-0957-42BC-B2CE-A3AEE11C8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452C1-B25F-4372-8F3F-3037865D9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A637A-D8CB-4E49-ADE9-3D713A8A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D2031-9200-4E66-BE0E-929412EC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6C0DF-A284-4E04-80AE-23F2DD96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88E4C-245A-45AB-BE83-F731EAF18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B813C-E6C3-4625-9178-4C0B6A5A4E6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¿CUÁL ES 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795F4-F8CC-4EE3-A5DB-DFBADB9AAFD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0" y="112536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332000" y="836640"/>
            <a:ext cx="74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485640" y="2708280"/>
            <a:ext cx="8172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8"/>
          <p:cNvSpPr/>
          <p:nvPr/>
        </p:nvSpPr>
        <p:spPr>
          <a:xfrm>
            <a:off x="0" y="1341360"/>
            <a:ext cx="914400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IMAGEN DE UN MEJOR MAÑANA, DADO POR DIOS, QUE MUEVE A UNA PERSONA A CREER NO SOLAMENTE QUÉ PUEDE SER HECHO, SINO QUÉ DEBE SER HECH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7" descr="http://pinchofgrace.files.wordpress.com/2011/08/silhouette-of-woman-praying.jpg"/>
          <p:cNvPicPr/>
          <p:nvPr/>
        </p:nvPicPr>
        <p:blipFill>
          <a:blip r:embed="rId1"/>
          <a:srcRect l="10321" t="5359" r="5848" b="3805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7" name="Picture 5" descr="http://ec.l.thumbs.canstockphoto.com/canstock2777881.jpg"/>
          <p:cNvPicPr/>
          <p:nvPr/>
        </p:nvPicPr>
        <p:blipFill>
          <a:blip r:embed="rId1"/>
          <a:srcRect l="3420" t="21882" r="0" b="20314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31080" y="1182600"/>
            <a:ext cx="204768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7:13Z</dcterms:modified>
  <cp:revision>77</cp:revision>
  <dc:subject/>
  <dc:title>PowerPoint Presentation</dc:title>
</cp:coreProperties>
</file>