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1AD181-783A-445E-A8AB-5DA6EB69C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2F081E-2F61-41BB-901A-CF4139E2D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5E85E7-DFA4-49CE-A330-77734EEE3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5198DC-B152-4374-BB82-3CE7DDA9B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0CC6F-795E-4EA1-A4A8-4192A6651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955F2-EF40-4518-8DDB-B900B21D3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54FFC-7941-4CB2-A4A9-489C155E0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CEE16-C43F-483F-BDFD-95D79C97F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E65DA-60AD-4C69-B423-C0649FE28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9AEA0-95F3-4488-B3A6-471CCD868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766BC-9791-4EF4-889B-3AEFD2738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19D402-68AA-4125-9670-D93540D6D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40708-2EA1-4E3D-A5C8-077998855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29ABB-4722-4EE4-A2C8-92365C62F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83345-2621-409B-B09A-A1B91C851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71CE8-27E3-4913-90C3-4A8514D0E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01FC6-1FBD-409F-8FE1-445F8F03D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E05FB6-D27D-446F-B308-C89C84B97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91530C-D848-4ADD-8C39-310A865A4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8FA32B-A36C-4E34-8D7B-836780B6E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AB148C-E056-4AB1-BC5E-F491AA1F5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06C7C7-CB77-4A66-9D96-688C3F5EE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188FCE-EFE7-4924-820A-7E52D7FEB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6FC893-00C5-40EF-9CF7-46509265B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E0DAD-6CBE-433B-81E1-9A6FADE546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80250-BD17-4424-87BF-249AC506989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LABOR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4" name="Picture 6" descr="ttp://content.everydayhealth.com/wte3.0/gcms/surprising-labor-and-delivery-facts-woman-in-labor-full.jpg"/>
          <p:cNvPicPr/>
          <p:nvPr/>
        </p:nvPicPr>
        <p:blipFill>
          <a:blip r:embed="rId1"/>
          <a:stretch/>
        </p:blipFill>
        <p:spPr>
          <a:xfrm>
            <a:off x="592200" y="1773360"/>
            <a:ext cx="3384360" cy="338112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1"/>
          <p:cNvSpPr/>
          <p:nvPr/>
        </p:nvSpPr>
        <p:spPr>
          <a:xfrm>
            <a:off x="4567320" y="2470320"/>
            <a:ext cx="36734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cluya dolor y luch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 una buena señal de que algo está por sucede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5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NACIMIEN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Es un celebración!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8" name="Picture 7" descr="http://sapiengames.com/wp-content/uploads/2014/09/stork.png"/>
          <p:cNvPicPr/>
          <p:nvPr/>
        </p:nvPicPr>
        <p:blipFill>
          <a:blip r:embed="rId1"/>
          <a:stretch/>
        </p:blipFill>
        <p:spPr>
          <a:xfrm>
            <a:off x="5724360" y="1197000"/>
            <a:ext cx="2737080" cy="35082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"/>
          <p:cNvPicPr/>
          <p:nvPr/>
        </p:nvPicPr>
        <p:blipFill>
          <a:blip r:embed="rId2"/>
          <a:stretch/>
        </p:blipFill>
        <p:spPr>
          <a:xfrm>
            <a:off x="1116000" y="3573360"/>
            <a:ext cx="3184560" cy="31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3"/>
          <p:cNvSpPr/>
          <p:nvPr/>
        </p:nvSpPr>
        <p:spPr>
          <a:xfrm>
            <a:off x="250920" y="1452600"/>
            <a:ext cx="8893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0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58680" y="2602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s-ES" sz="2700" spc="-1" strike="noStrike">
                <a:solidFill>
                  <a:srgbClr val="ffffff"/>
                </a:solidFill>
                <a:latin typeface="Garamond"/>
              </a:rPr>
              <a:t>Recorría Jesús todas las ciudades y aldeas, enseñando en las sinagogas de ellos, y predicando el evangelio del reino, y sanando toda enfermedad y toda dolencia en el pueblo. Y al ver las multitudes, tuvo compasión de ellas; porque estaban desamparadas y dispersas como ovejas que no tienen pastor. Entonces dijo a sus discípulos: A la verdad la mies es mucha, mas los obreros pocos. Rogad, pues, al Señor de la mies, que envíe obreros a su mies. Entonces llamando a sus doce discípulos, les dio autoridad sobre los espíritus inmundos, para que los echasen fuera, y para sanar toda enfermedad y toda dolencia. … A estos doce envió Jesús, y les dio instrucciones, diciendo: …Y yendo, predicad, diciendo: El reino de los cielos se ha acercado. Sanad enfermos, limpiad leprosos, resucitad muertos, echad fuera demonios; de gracia recibisteis, dad de gracia.” (Mateo 9:35-10:8)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0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1413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ÓNGASE ACTIVO EN EL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SERVICIO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E INICIE CON OBEDIENCI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MUNIQUE L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REVELACIÓN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QUE YA TIEN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OBSERV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Y ENTIENDA LA REALIDAD DE LA CONDICIÓN HUMAN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ERMITA QUE DIOS LE DE UN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ARG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POR UNA NECESIDAD ESPECÍFIC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0" y="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 (Mateo 9:35-10:8)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0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0" y="1412640"/>
            <a:ext cx="9144000" cy="43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83480" indent="-483480">
              <a:spcBef>
                <a:spcPts val="1800"/>
              </a:spcBef>
              <a:buClr>
                <a:srgbClr val="ffffff"/>
              </a:buClr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USQUE EL DIAGNÓSTICO DIVINO: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¿CUÁL ES EL ASUNTO POR RESOLVER 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3480" indent="-483480">
              <a:spcBef>
                <a:spcPts val="1800"/>
              </a:spcBef>
              <a:buClr>
                <a:srgbClr val="ffffff"/>
              </a:buClr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OR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DETERMINAR CUAL ACCIÓN PUEDE SUPLIR ESA NECESIDA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3480" indent="-4834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LIJA UN EQUIPO Y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ÉLES PODE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COLABORA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3480" indent="-483480"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TOME ACCIÓN INMEDIATA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EL     CUMPLIMIENTO DE LA VISIÓ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3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0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4"/>
          <p:cNvSpPr/>
          <p:nvPr/>
        </p:nvSpPr>
        <p:spPr>
          <a:xfrm>
            <a:off x="0" y="5605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Qué voz inspira su visión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Text Box 13"/>
          <p:cNvSpPr/>
          <p:nvPr/>
        </p:nvSpPr>
        <p:spPr>
          <a:xfrm>
            <a:off x="0" y="1628640"/>
            <a:ext cx="9144000" cy="34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interna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l enoj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l éxi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 lo al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1"/>
          <a:stretch/>
        </p:blipFill>
        <p:spPr>
          <a:xfrm>
            <a:off x="5364000" y="4192560"/>
            <a:ext cx="330228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0" y="2097000"/>
            <a:ext cx="914400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omienzo fuer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Un tem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Lenguaje sencillo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Ilustracione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Final emotivo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0" y="64296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lementos para comunicar su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1" name="Picture 5" descr="http://1.bp.blogspot.com/--PA0ynWyff4/UcZZQi2xbII/AAAAAAAANBM/9k8eZQOOxFw/s1600/%E5%B7%A5%E5%85%B7%E7%AE%B1+Cartoons+toolbox+vector+material+%E3%82%A4%E3%83%A9%E3%82%B9%E3%83%88%E7%B4%A0%E6%9D%90.jpg"/>
          <p:cNvPicPr/>
          <p:nvPr/>
        </p:nvPicPr>
        <p:blipFill>
          <a:blip r:embed="rId1"/>
          <a:stretch/>
        </p:blipFill>
        <p:spPr>
          <a:xfrm>
            <a:off x="5435640" y="4235400"/>
            <a:ext cx="370692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0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Cómo debemos manejar la visión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1915920"/>
            <a:ext cx="914400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Véala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LARA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Muéstrela 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REATIVA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Comuníquela 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ONSTANTE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Picture 5" descr="http://images.clipartpanda.com/creativity-clipart-62367-design-mascot-woman-painter.jpg"/>
          <p:cNvPicPr/>
          <p:nvPr/>
        </p:nvPicPr>
        <p:blipFill>
          <a:blip r:embed="rId1"/>
          <a:stretch/>
        </p:blipFill>
        <p:spPr>
          <a:xfrm>
            <a:off x="5916600" y="2492280"/>
            <a:ext cx="310680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0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1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6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0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4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5C92D-D779-4A14-97D7-E9B7D63594F6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0" y="620640"/>
            <a:ext cx="9144000" cy="49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¿Preguntas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o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ffff"/>
                </a:solidFill>
                <a:latin typeface="Garamond"/>
              </a:rPr>
              <a:t>Comentarios?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0" y="1125360"/>
            <a:ext cx="914400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Garamond"/>
              </a:rPr>
              <a:t>¡Tengo un sueño!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Capturando e implementando una visión dada por Dios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Lección #3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1332000" y="836640"/>
            <a:ext cx="748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¿</a:t>
            </a: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Qué es una visión?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4" name="Picture 3" descr=""/>
          <p:cNvPicPr/>
          <p:nvPr/>
        </p:nvPicPr>
        <p:blipFill>
          <a:blip r:embed="rId1"/>
          <a:stretch/>
        </p:blipFill>
        <p:spPr>
          <a:xfrm>
            <a:off x="485640" y="2708280"/>
            <a:ext cx="817272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¿Qué es una visión?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0" y="1700280"/>
            <a:ext cx="9144000" cy="643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Visión es ver el futuro, en el presente, construido sobre el pasado.”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“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Visión es ver lo invisible y convertirlo en visible.”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Visión es un puente de información del presente a un mejor futuro.”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8"/>
          <p:cNvSpPr/>
          <p:nvPr/>
        </p:nvSpPr>
        <p:spPr>
          <a:xfrm>
            <a:off x="0" y="1341360"/>
            <a:ext cx="9144000" cy="40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A CLARA IMAGEN DE UN MEJOR MAÑANA, DADO POR DIOS, QUE MUEVE A UNA PERSONA A CREER NO SOLAMENTE QUÉ PUEDE SER HECHO, SINO QUÉ DEBE SER HECH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Text Box 16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¿Qué es una visión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Note los ingredientes de una visión divina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Text Box 12"/>
          <p:cNvSpPr/>
          <p:nvPr/>
        </p:nvSpPr>
        <p:spPr>
          <a:xfrm>
            <a:off x="0" y="1312920"/>
            <a:ext cx="9144000" cy="46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a clara pintura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cambio positiv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enfoque futur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regalo de Di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.</a:t>
            </a: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Gente y tiempo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scogid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1" name="Picture 3" descr=""/>
          <p:cNvPicPr/>
          <p:nvPr/>
        </p:nvPicPr>
        <p:blipFill>
          <a:blip r:embed="rId1"/>
          <a:stretch/>
        </p:blipFill>
        <p:spPr>
          <a:xfrm>
            <a:off x="4284720" y="4941720"/>
            <a:ext cx="47289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1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INTIMIDAD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8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ienes que pasar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iempo con el Señor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marL="586080" indent="-586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4" name="Picture 7" descr="http://pinchofgrace.files.wordpress.com/2011/08/silhouette-of-woman-praying.jpg"/>
          <p:cNvPicPr/>
          <p:nvPr/>
        </p:nvPicPr>
        <p:blipFill>
          <a:blip r:embed="rId1"/>
          <a:srcRect l="10321" t="5359" r="5848" b="3805"/>
          <a:stretch/>
        </p:blipFill>
        <p:spPr>
          <a:xfrm>
            <a:off x="5867280" y="2343240"/>
            <a:ext cx="2881440" cy="4151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CONCEPC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marL="586080" indent="-586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7" name="Picture 5" descr="http://ec.l.thumbs.canstockphoto.com/canstock2777881.jpg"/>
          <p:cNvPicPr/>
          <p:nvPr/>
        </p:nvPicPr>
        <p:blipFill>
          <a:blip r:embed="rId1"/>
          <a:srcRect l="3420" t="21882" r="0" b="20314"/>
          <a:stretch/>
        </p:blipFill>
        <p:spPr>
          <a:xfrm>
            <a:off x="2475000" y="3840120"/>
            <a:ext cx="4194000" cy="294336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2"/>
          <p:cNvSpPr/>
          <p:nvPr/>
        </p:nvSpPr>
        <p:spPr>
          <a:xfrm>
            <a:off x="250920" y="2033640"/>
            <a:ext cx="864216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mpieza pequeno y crec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recerá a Dios y tú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6000"/>
          </a:bodyPr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3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GESTAC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0080" indent="-280080">
              <a:spcBef>
                <a:spcPts val="1800"/>
              </a:spcBef>
              <a:spcAft>
                <a:spcPts val="1800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s el período más largo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de todo el proces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-280080">
              <a:spcBef>
                <a:spcPts val="18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La visión de Dios va a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stirarte!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1" name="Picture 5" descr="http://www.clipartbest.com/cliparts/ncE/a96/ncEa96acA.png"/>
          <p:cNvPicPr/>
          <p:nvPr/>
        </p:nvPicPr>
        <p:blipFill>
          <a:blip r:embed="rId1"/>
          <a:stretch/>
        </p:blipFill>
        <p:spPr>
          <a:xfrm>
            <a:off x="6931080" y="1182600"/>
            <a:ext cx="2047680" cy="53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Bryan Cyr</cp:lastModifiedBy>
  <dcterms:modified xsi:type="dcterms:W3CDTF">2016-09-13T21:37:13Z</dcterms:modified>
  <cp:revision>77</cp:revision>
  <dc:subject/>
  <dc:title>PowerPoint Presentation</dc:title>
</cp:coreProperties>
</file>