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3CDC-5754-4AEA-857A-F0E72433C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56C0-9CCF-43A3-BCDA-EB185C3F1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B8F0-8B92-4A65-B59D-A354C0A7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EE2-59A8-414C-A085-A399E8FE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153-AD49-4EB9-813D-5CA4E253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EF24-DC99-45A5-AB23-BA97C3DC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868-A797-4B0A-9843-420ECE3E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55D-B1EC-482B-AE57-79DF0AAD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35F8-C1CB-4019-9825-355CCF38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593A-DEA4-49CD-9664-A5538EFD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DB29-F111-4903-B560-182BF9EE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CED-E439-4CCA-831B-ABEB23EE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429-83CC-48A2-8C0D-E608373A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C5E-23EE-4D4C-9874-BA595D02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4384-2A53-4D1A-8E8C-8B2A716B1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1680" y="172584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¿Veo el cuadr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ólo el mal momen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26880" y="306972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¿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UNI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cuadro completo junto al mal moment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89440" y="507024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¿Es una situación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 VE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algo que se repite con frecuenci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168960" y="2243160"/>
            <a:ext cx="2594160" cy="21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ttp://www.weonlydothisonce.ritesite.us/wp-content/uploads/2013/02/repetition.png"/>
          <p:cNvPicPr/>
          <p:nvPr/>
        </p:nvPicPr>
        <p:blipFill>
          <a:blip r:embed="rId2"/>
          <a:srcRect l="51436" t="13028" r="7768" b="16098"/>
          <a:stretch/>
        </p:blipFill>
        <p:spPr>
          <a:xfrm rot="5400000">
            <a:off x="1241280" y="436536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14086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¿Convierto demasiadas situaciones en asuntos de vida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ER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733920" y="47311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¿Muestro m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ondicional durante situacione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ttp://fallibleblogma.com/wp-content/uploads/2009/08/grim_reaper-280x300.png"/>
          <p:cNvPicPr/>
          <p:nvPr/>
        </p:nvPicPr>
        <p:blipFill>
          <a:blip r:embed="rId1"/>
          <a:stretch/>
        </p:blipFill>
        <p:spPr>
          <a:xfrm>
            <a:off x="5867280" y="1401840"/>
            <a:ext cx="266724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tp://4.bp.blogspot.com/-sLklqQ8tWhs/UQ2H4yddydI/AAAAAAAAANo/VEKiZDom5NY/s1600/heart.png"/>
          <p:cNvPicPr/>
          <p:nvPr/>
        </p:nvPicPr>
        <p:blipFill>
          <a:blip r:embed="rId2"/>
          <a:stretch/>
        </p:blipFill>
        <p:spPr>
          <a:xfrm>
            <a:off x="533520" y="4017960"/>
            <a:ext cx="2857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80880" y="1523880"/>
            <a:ext cx="8229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sta es la historia de un esclavo, Onésimo, que escapó de Filemón. Pablo guió a Onésimo a Cristo y deseaba que permaneciera con él. No obstante, decidió que su relación con Filemón era tan importante que no debería mantener a Onésimo consigo sin el consentimiento de Filemón. Además, Pablo creía que Filemón recibiría a Onésimo, no como esclavo sino como un hermano. Sus acciones eran motivadas por el amor que sentía por ambos hombre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88640" y="126036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mor de los cristianos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5360" y="1930320"/>
            <a:ext cx="83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ca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ENEST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0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801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rat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NESTAM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 los demá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12-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8440" y="4078440"/>
            <a:ext cx="51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leva la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G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5413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Cree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J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2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ttp://images.sodahead.com/polls/000305453/polls_b161872053_5425_659791_poll_xlarge.jpeg"/>
          <p:cNvPicPr/>
          <p:nvPr/>
        </p:nvPicPr>
        <p:blipFill>
          <a:blip r:embed="rId1"/>
          <a:stretch/>
        </p:blipFill>
        <p:spPr>
          <a:xfrm>
            <a:off x="5715000" y="3562200"/>
            <a:ext cx="3333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39960" y="91692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38080" y="176184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circunstancias de la vida le hagan considerar que las relaciones son menos importantes de lo que debiesen s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62120" y="4151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presiones de la vida lo lleven a descuidar la relación con s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52280" y="-19548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ndo Bob tiene u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problema con todos, cas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siempre Bob es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86480" y="3303360"/>
            <a:ext cx="80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ómo se puede reconocer 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?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41040" y="396396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ob es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T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tp://www.cliparthut.com/clip-arts/69/sad-person-clip-art-69783.png"/>
          <p:cNvPicPr/>
          <p:nvPr/>
        </p:nvPicPr>
        <p:blipFill>
          <a:blip r:embed="rId1"/>
          <a:stretch/>
        </p:blipFill>
        <p:spPr>
          <a:xfrm>
            <a:off x="6877080" y="57240"/>
            <a:ext cx="2057400" cy="291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914400" y="4599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ob es un experto 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NT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57600" y="5573520"/>
            <a:ext cx="72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952560" y="61833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EPT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-76320" y="8316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des y el pueblo de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12: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0640" y="1656000"/>
            <a:ext cx="82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TRAT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sus propios ciudad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 ejecutar a gente inocente (v.1-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6600" y="3097440"/>
            <a:ext cx="86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mó decisiones basado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7360" y="4545000"/>
            <a:ext cx="338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Actuó de maner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RA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momentos difíciles (v.19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279720" y="154080"/>
            <a:ext cx="90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Guardab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contra de los demás (v.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268920" y="992160"/>
            <a:ext cx="95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Buscaba el poder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GU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v.20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275040" y="1830240"/>
            <a:ext cx="100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Aparentaba ten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AG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fallible (v.21-2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2280" y="260064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staba cegado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l cual después lo mató (v.2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316160" y="15408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hacer con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00560" y="9918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a con un comentario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1833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uestre su interés por la persona que está siendo crit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4680" y="32778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ídale a Bob que piense antes de hab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09480" y="433656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Motive a que se den pasos concretos hacia una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11280" y="5810040"/>
            <a:ext cx="83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Mantenga a Bob alejado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242360" y="10692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600920" y="2160360"/>
            <a:ext cx="46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yo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523880" y="43365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no ser así, ¿cómo trató 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3880" y="30524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ser así, ¿qué necesito hacer para camb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01800" y="6933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14400" y="2882160"/>
            <a:ext cx="7940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demos desarr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confianza mutu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52280" y="57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SIBILIDA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Si estamos a gusto con nosotros mismos, otros se sentirán a gusto con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28600" y="29728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hay más grande regalo que podamos dar a los demás que hacerlos sentir cómodos. Los buenos líderes son seguros y no proyectan una imag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intocable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tp://www.standoutblogger.com/images/approachable.gif"/>
          <p:cNvPicPr/>
          <p:nvPr/>
        </p:nvPicPr>
        <p:blipFill>
          <a:blip r:embed="rId1"/>
          <a:stretch/>
        </p:blipFill>
        <p:spPr>
          <a:xfrm>
            <a:off x="6019920" y="2631960"/>
            <a:ext cx="293832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1066680" y="0"/>
            <a:ext cx="6934320" cy="6693480"/>
            <a:chOff x="1066680" y="0"/>
            <a:chExt cx="6934320" cy="6693480"/>
          </a:xfrm>
        </p:grpSpPr>
        <p:pic>
          <p:nvPicPr>
            <p:cNvPr id="132" name="Picture 1" descr=""/>
            <p:cNvPicPr/>
            <p:nvPr/>
          </p:nvPicPr>
          <p:blipFill>
            <a:blip r:embed="rId1"/>
            <a:srcRect l="0" t="-1136" r="0" b="866"/>
            <a:stretch/>
          </p:blipFill>
          <p:spPr>
            <a:xfrm>
              <a:off x="1066680" y="0"/>
              <a:ext cx="6934320" cy="66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"/>
            <p:cNvSpPr/>
            <p:nvPr/>
          </p:nvSpPr>
          <p:spPr>
            <a:xfrm>
              <a:off x="1066680" y="6172920"/>
              <a:ext cx="6934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Me siento un líder debe ser accesible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576600" y="1676520"/>
            <a:ext cx="556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e pidió a su siervo que le encontrara una esposa a Isaac. El siervo viajó a Mesopotamia así como Abraham le había mandado hacer, al llegar sentó a sus camellos afuera de la cuidad junto a un pozo de agua, cuando la tarde caía. Esperaba que las mujeres de la ciudad vinieran a sacar agua, y oró para que tuviera una respuesta favorable cuando le pidiera de beber a una de ellas. Cuando él, un total extraño, se acercó a Rebeca y le pidió agua para beber, ella le respondió con amabilidad y genero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3657600" y="1676520"/>
            <a:ext cx="548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fácil hubiera sido para Rebeca ignorar la petición de agua de un extraño, o simplemente pudo haberle ofrecido una bebida con rapidez y haber continuado su camino. Sin embargo, ella le hizo conversación e hizo un esfuerzo extra al proveerle agua para su grupo de camellos sedientos. Como resultado de su accesibilidad, su vida cambió en una forma que jamás se hubiera podido imaginar; como esposa de Isaac, se convertiría en parte del linaje del Mesía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012680" y="10692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4120" y="190620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acce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268236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us compañeros se sienten con la libertad de traerle malas noticias, de estar en desacuerdo con su punto de vista, o de cuestionar algo que usted hizo 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79800" y="58942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Tiende a la volubilida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28600" y="159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INCH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prepararse para la batalla, cave un hoyo en el que también quep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4920" y="2007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rentamos muchas batallas en la vida, y la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trincheras» en las cuales vivimos vienen en diferentes formas y tam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os son lugares donde desarrollamos relaciones cercanas con los demás, y cuando la vida se dificulta, tenem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os amigos que enfrentan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nto con nosotros es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s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7080" y="78480"/>
            <a:ext cx="894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echos acerca de los amigos de trincher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7960" y="930960"/>
            <a:ext cx="44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pocos en núm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9120" y="1540440"/>
            <a:ext cx="70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Dan fuerzas antes y durante la ba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43720" y="222624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n las cosas desde la misma perspec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52720" y="29120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Hacen una diferencia en nuestr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5520" y="359784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os aman incondicion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13760" y="4320"/>
            <a:ext cx="89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Pablo y Bernab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9:26-2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" y="132840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nabé fue un amigo de trinchera por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202104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yó en Pab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alguien más lo hicie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13200" y="3192840"/>
            <a:ext cx="42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OB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liderazgo de Pablo ante otros líd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88080" y="4958280"/>
            <a:ext cx="340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yudó a Pablo a alcanza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TEN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3276720"/>
            <a:ext cx="4605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241280" y="122184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2480" y="20642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un amigo del cual los demás dependen en tiempo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676520" y="38930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estado en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trinchera» con un amigo, un colega o con un miembro de la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154880" y="1220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1833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ado en estos cinco principios, ¿fomenta usted o reduce confianza en sus relac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53800" y="3920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4564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qué relación necesita edificar la confianza? ¿Qué hará para fortalecer esa confia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762120" y="61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MIEN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nfianza es el fundamento de cualquier 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371600" y="3124080"/>
            <a:ext cx="6324480" cy="3529080"/>
            <a:chOff x="1371600" y="3124080"/>
            <a:chExt cx="6324480" cy="3529080"/>
          </a:xfrm>
        </p:grpSpPr>
        <p:pic>
          <p:nvPicPr>
            <p:cNvPr id="53" name="Picture 7" descr="ttp://cdn.grid.fotosearch.com/CSP/CSP991/k12375165.jpg"/>
            <p:cNvPicPr/>
            <p:nvPr/>
          </p:nvPicPr>
          <p:blipFill>
            <a:blip r:embed="rId1"/>
            <a:srcRect l="0" t="12774" r="0" b="12141"/>
            <a:stretch/>
          </p:blipFill>
          <p:spPr>
            <a:xfrm>
              <a:off x="1371600" y="3124080"/>
              <a:ext cx="63244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" descr=""/>
            <p:cNvPicPr/>
            <p:nvPr/>
          </p:nvPicPr>
          <p:blipFill>
            <a:blip r:embed="rId2"/>
            <a:stretch/>
          </p:blipFill>
          <p:spPr>
            <a:xfrm>
              <a:off x="1854000" y="4508280"/>
              <a:ext cx="39495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 result for trust fall"/>
          <p:cNvPicPr/>
          <p:nvPr/>
        </p:nvPicPr>
        <p:blipFill>
          <a:blip r:embed="rId1"/>
          <a:stretch/>
        </p:blipFill>
        <p:spPr>
          <a:xfrm>
            <a:off x="838080" y="257040"/>
            <a:ext cx="793116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at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000" y="1588680"/>
            <a:ext cx="599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La confianza comienza c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O MISM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4983480"/>
            <a:ext cx="50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confianza no pue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TIMENTA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003" t="0" r="11602" b="0"/>
          <a:stretch/>
        </p:blipFill>
        <p:spPr>
          <a:xfrm>
            <a:off x="6089760" y="1066680"/>
            <a:ext cx="228420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www.careerealism.com/wp-content/uploads/2011/12/Several-Cabinets-Featured.png"/>
          <p:cNvPicPr/>
          <p:nvPr/>
        </p:nvPicPr>
        <p:blipFill>
          <a:blip r:embed="rId2"/>
          <a:srcRect l="18658" t="0" r="50" b="0"/>
          <a:stretch/>
        </p:blipFill>
        <p:spPr>
          <a:xfrm>
            <a:off x="66600" y="423864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tro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165240" y="1343160"/>
            <a:ext cx="709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confianza funciona como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ENTA DE BAN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382920" y="472788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G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el fundamento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ttp://newyear.phillipmartin.info/personal_finances.gif"/>
          <p:cNvPicPr/>
          <p:nvPr/>
        </p:nvPicPr>
        <p:blipFill>
          <a:blip r:embed="rId1"/>
          <a:stretch/>
        </p:blipFill>
        <p:spPr>
          <a:xfrm>
            <a:off x="6553080" y="687240"/>
            <a:ext cx="2519640" cy="304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tp://photos.gograph.com/thumbs/CSP/CSP991/k11740725.jpg"/>
          <p:cNvPicPr/>
          <p:nvPr/>
        </p:nvPicPr>
        <p:blipFill>
          <a:blip r:embed="rId2"/>
          <a:stretch/>
        </p:blipFill>
        <p:spPr>
          <a:xfrm>
            <a:off x="214200" y="3759120"/>
            <a:ext cx="26593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76320" y="781200"/>
            <a:ext cx="8991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 igual que Sansón, muchos líderes que están mermando el terreno de la confianza en sus relaciones y en su liderazgo, van a mostrar con frecuencia uno o más de los siguientes rasg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875240" y="3960"/>
            <a:ext cx="53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són (Jueces 13:1-16:3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3392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r en lidiar c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ilidade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Á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6320" y="4535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ar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AÑ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se a sí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6320" y="56786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MEN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contro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ttp://static.comicvine.com/uploads/scale_small/11111/111118999/3113444-3751428663-samso.jpg"/>
          <p:cNvPicPr/>
          <p:nvPr/>
        </p:nvPicPr>
        <p:blipFill>
          <a:blip r:embed="rId1"/>
          <a:stretch/>
        </p:blipFill>
        <p:spPr>
          <a:xfrm>
            <a:off x="5867280" y="2743200"/>
            <a:ext cx="3105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39356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52480" y="236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n presentes en su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os de estos rasg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52480" y="3727080"/>
            <a:ext cx="71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medidas de cor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320" y="81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permita que la situación importe má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la re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11360" y="1620720"/>
            <a:ext cx="82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egla clave a segu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siempre intentar valorar a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ero más que a las situaciones, progra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tp://gpfarah.com/gpfarahcom/wp-content/uploads/2014/05/hands-in-the-middle-2.jpg"/>
          <p:cNvPicPr/>
          <p:nvPr/>
        </p:nvPicPr>
        <p:blipFill>
          <a:blip r:embed="rId1"/>
          <a:stretch/>
        </p:blipFill>
        <p:spPr>
          <a:xfrm>
            <a:off x="2362320" y="3681360"/>
            <a:ext cx="3846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4:31:37Z</dcterms:created>
  <dc:creator>montecyr@yahoo.com</dc:creator>
  <dc:description/>
  <dc:language>en-US</dc:language>
  <cp:lastModifiedBy>Monte Cyr</cp:lastModifiedBy>
  <dcterms:modified xsi:type="dcterms:W3CDTF">2021-02-20T13:45:20Z</dcterms:modified>
  <cp:revision>16</cp:revision>
  <dc:subject/>
  <dc:title>PowerPoint Presentation</dc:title>
</cp:coreProperties>
</file>