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png" ContentType="image/png"/>
  <Override PartName="/ppt/media/image23.png" ContentType="image/png"/>
  <Override PartName="/ppt/media/image2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png" ContentType="image/png"/>
  <Override PartName="/ppt/media/image12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B0AB-9809-4DFD-AD95-F98B5C07F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D425-F706-4F3B-8B96-A982CF1F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2DCC-6946-4743-983A-A67B74C56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E896-FF0E-4D18-B7C2-F3805B04F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525F-F682-4B2F-8F2E-5016DE22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6F54-E7D3-403A-9BF0-7109CA24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56DB-6A99-4CB5-ADC9-0686EAA5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324B-28C7-49B2-BBB1-CBFF5EC9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3609-6765-41EB-9C8A-A2B58364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0006-5780-49F1-A19C-ECF40602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ECF8-012E-4165-956A-FB274AC5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8739-C4D2-409A-BDC4-15D03AE9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D42C-8B58-431F-8BA3-996E6C98D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76320" y="157680"/>
            <a:ext cx="723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RCAMBI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En vez de poner a otros en su lugar, debemos ponernos nosotros en el lugar de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6320" y="190836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Abigail y el ejército de David (I Samuel 25:18-3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2514600" y="297504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cabeza de un líder: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TENDÍ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905120" y="4270680"/>
            <a:ext cx="452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El corazón de un líder: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MAB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304920" y="575496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La mano de un líder: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YUDAB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7307280" y="12600"/>
            <a:ext cx="1828800" cy="179712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9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1"/>
          <p:cNvSpPr/>
          <p:nvPr/>
        </p:nvSpPr>
        <p:spPr>
          <a:xfrm>
            <a:off x="3049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ttp://b-i.forbesimg.com/meghanbiro/files/2013/05/heart-of-a-coach5.jpeg"/>
          <p:cNvPicPr/>
          <p:nvPr/>
        </p:nvPicPr>
        <p:blipFill>
          <a:blip r:embed="rId2"/>
          <a:srcRect l="22472" t="1020" r="14913" b="20698"/>
          <a:stretch/>
        </p:blipFill>
        <p:spPr>
          <a:xfrm>
            <a:off x="228600" y="3417840"/>
            <a:ext cx="1657440" cy="2220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5" descr="ttp://www.cliparthut.com/clip-arts/1493/man-thinking-clip-art-1493316.png"/>
          <p:cNvPicPr/>
          <p:nvPr/>
        </p:nvPicPr>
        <p:blipFill>
          <a:blip r:embed="rId3"/>
          <a:stretch/>
        </p:blipFill>
        <p:spPr>
          <a:xfrm>
            <a:off x="7547040" y="2444760"/>
            <a:ext cx="1425600" cy="2300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7" descr="ttp://virginiasalvationarmy.org/hamptonva/files/2012/08/Helping-hand.jpg"/>
          <p:cNvPicPr/>
          <p:nvPr/>
        </p:nvPicPr>
        <p:blipFill>
          <a:blip r:embed="rId4"/>
          <a:stretch/>
        </p:blipFill>
        <p:spPr>
          <a:xfrm>
            <a:off x="5181480" y="5249880"/>
            <a:ext cx="1905120" cy="1581120"/>
          </a:xfrm>
          <a:prstGeom prst="rect">
            <a:avLst/>
          </a:prstGeom>
          <a:ln w="316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1455840" y="55080"/>
            <a:ext cx="555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ómo practicar el principi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l intercamb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2133720" y="204984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je “su lugar” y visite “el lugar de ellos” para ver así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UNTO DE V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733920" y="392616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xamine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CTITU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987640" y="5754960"/>
            <a:ext cx="592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Pregúntele a otros qué harían ellos en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ITU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7238880" y="108000"/>
            <a:ext cx="1828800" cy="1797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ttp://www.northcornwallclusterofchurches.org.uk/wp-content/uploads/2014/03/LPV-cartoon.jpg"/>
          <p:cNvPicPr/>
          <p:nvPr/>
        </p:nvPicPr>
        <p:blipFill>
          <a:blip r:embed="rId2"/>
          <a:srcRect l="5526" t="10141" r="7110" b="2821"/>
          <a:stretch/>
        </p:blipFill>
        <p:spPr>
          <a:xfrm>
            <a:off x="50760" y="1219320"/>
            <a:ext cx="1967040" cy="2238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ttp://s3.amazonaws.com/rapgenius/1322715984_how-to-draw-gangster-spongebob.jpg"/>
          <p:cNvPicPr/>
          <p:nvPr/>
        </p:nvPicPr>
        <p:blipFill>
          <a:blip r:embed="rId3"/>
          <a:stretch/>
        </p:blipFill>
        <p:spPr>
          <a:xfrm>
            <a:off x="6553080" y="320040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" descr=""/>
          <p:cNvPicPr/>
          <p:nvPr/>
        </p:nvPicPr>
        <p:blipFill>
          <a:blip r:embed="rId4"/>
          <a:stretch/>
        </p:blipFill>
        <p:spPr>
          <a:xfrm>
            <a:off x="152280" y="4452840"/>
            <a:ext cx="2722680" cy="22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1392120" y="1146240"/>
            <a:ext cx="40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1143000" y="241200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Me esfuerzo por ver las cos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sde el punto de vista de la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gen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152280" y="29520"/>
            <a:ext cx="883944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PRENDIZAJ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da persona que conocemos tiene el potencial de enseñarnos al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28600" y="1609920"/>
            <a:ext cx="8763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os líderes eficientes nunca dejan de crecer.  Que continuemos aprendiendo o no, no tiene que ver con quién nos está enseñando, pero sí tiene mucho que ver con lo dóciles que somos para ser enseñado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2209680" y="4114800"/>
            <a:ext cx="50007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1127520" y="79560"/>
            <a:ext cx="709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Naamán y 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ervo (II Reyes 5:1-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421200" y="1106640"/>
            <a:ext cx="756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punto es que no fue dócil ni educable, 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gual que muchos líderes hoy en dí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034640" y="2088360"/>
            <a:ext cx="613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quería un cambio ráp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990720" y="275436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esperó un trato espe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1038960" y="3392640"/>
            <a:ext cx="758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tenía ciertas teorías acerca de l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u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990720" y="445932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se enojó al recibir un trato injus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990720" y="567864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rechazó la solución al princip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" descr=""/>
          <p:cNvPicPr/>
          <p:nvPr/>
        </p:nvPicPr>
        <p:blipFill>
          <a:blip r:embed="rId1"/>
          <a:srcRect l="15074" t="2520" r="17948" b="4472"/>
          <a:stretch/>
        </p:blipFill>
        <p:spPr>
          <a:xfrm>
            <a:off x="5562720" y="4064040"/>
            <a:ext cx="350496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181440" y="117720"/>
            <a:ext cx="560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ómo aprender de otro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2447640" y="1037880"/>
            <a:ext cx="420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lor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ENT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2895480" y="2673720"/>
            <a:ext cx="556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dentifique las caracterís-ticas únicas y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ORTALEZA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 la g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3397320" y="5186160"/>
            <a:ext cx="315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g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EGUNTA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ttp://images.clipartpanda.com/smiley-face-thumbs-up-Smiley-face-with-thumbs-up.jpg"/>
          <p:cNvPicPr/>
          <p:nvPr/>
        </p:nvPicPr>
        <p:blipFill>
          <a:blip r:embed="rId1"/>
          <a:stretch/>
        </p:blipFill>
        <p:spPr>
          <a:xfrm>
            <a:off x="6554880" y="531720"/>
            <a:ext cx="2208240" cy="1906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ttp://www.talentinsights.com/wp-content/uploads/2014/12/Strength-Change.jpg"/>
          <p:cNvPicPr/>
          <p:nvPr/>
        </p:nvPicPr>
        <p:blipFill>
          <a:blip r:embed="rId2"/>
          <a:srcRect l="5661" t="-803" r="10249" b="3777"/>
          <a:stretch/>
        </p:blipFill>
        <p:spPr>
          <a:xfrm>
            <a:off x="304920" y="2103480"/>
            <a:ext cx="2377800" cy="2743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" descr=""/>
          <p:cNvPicPr/>
          <p:nvPr/>
        </p:nvPicPr>
        <p:blipFill>
          <a:blip r:embed="rId3"/>
          <a:stretch/>
        </p:blipFill>
        <p:spPr>
          <a:xfrm>
            <a:off x="6664320" y="4641840"/>
            <a:ext cx="209880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1316160" y="1175760"/>
            <a:ext cx="40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828800" y="253404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Me acerco a la gente con e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seo de aprender de ellas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5"/>
          <p:cNvSpPr/>
          <p:nvPr/>
        </p:nvSpPr>
        <p:spPr>
          <a:xfrm>
            <a:off x="304920" y="44964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ISM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gente se interesa en la persona que se interesa en 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ttp://2012books.lardbucket.org/books/a-primer-on-communication-studies/section_05/4b2a5b9106de73674acc95"/>
          <p:cNvPicPr/>
          <p:nvPr/>
        </p:nvPicPr>
        <p:blipFill>
          <a:blip r:embed="rId1"/>
          <a:stretch/>
        </p:blipFill>
        <p:spPr>
          <a:xfrm>
            <a:off x="4724280" y="2270160"/>
            <a:ext cx="3706920" cy="24699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"/>
          <p:cNvSpPr/>
          <p:nvPr/>
        </p:nvSpPr>
        <p:spPr>
          <a:xfrm>
            <a:off x="50760" y="5181480"/>
            <a:ext cx="904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las personas no les importa qué tanto sepa, hasta que saben lo mucho que le importan a uste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990720" y="213480"/>
            <a:ext cx="69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Jonatá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6320" y="1171800"/>
            <a:ext cx="850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1.  Jonatán estab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ISPONI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ONFI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76320" y="2222640"/>
            <a:ext cx="850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2.  Jonatán er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VULNER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y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SPONS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4572000" y="3346560"/>
            <a:ext cx="439884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152280" y="8064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ómo edificar su caris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76320" y="689040"/>
            <a:ext cx="585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é verdaderamente interesado en otr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2246760" y="2305080"/>
            <a:ext cx="35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ría a menu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2209680" y="3142080"/>
            <a:ext cx="4724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uerde que el nombre de una persona es importante para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2177280" y="4914000"/>
            <a:ext cx="47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a un buen escuch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1306440" y="5718240"/>
            <a:ext cx="616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ga sentir sinceramente importantes a las otr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ttp://www.cliparthut.com/clip-arts/20/effective-communication-clip-art-20367.png"/>
          <p:cNvPicPr/>
          <p:nvPr/>
        </p:nvPicPr>
        <p:blipFill>
          <a:blip r:embed="rId1"/>
          <a:stretch/>
        </p:blipFill>
        <p:spPr>
          <a:xfrm>
            <a:off x="5791320" y="279360"/>
            <a:ext cx="3278160" cy="1467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ttp://cache4.asset-cache.net/gc/165671537-cute-smiling-girl-grilling-on-a-barbecue-gettyimages.jpg?v=1&amp;c"/>
          <p:cNvPicPr/>
          <p:nvPr/>
        </p:nvPicPr>
        <p:blipFill>
          <a:blip r:embed="rId2"/>
          <a:srcRect l="41769" t="2311" r="11869" b="46676"/>
          <a:stretch/>
        </p:blipFill>
        <p:spPr>
          <a:xfrm>
            <a:off x="220680" y="1752480"/>
            <a:ext cx="1828800" cy="2011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" descr=""/>
          <p:cNvPicPr/>
          <p:nvPr/>
        </p:nvPicPr>
        <p:blipFill>
          <a:blip r:embed="rId3"/>
          <a:srcRect l="52312" t="1248" r="2690" b="68760"/>
          <a:stretch/>
        </p:blipFill>
        <p:spPr>
          <a:xfrm>
            <a:off x="6858000" y="2666880"/>
            <a:ext cx="2225520" cy="1482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ttp://blog.chron.com/careerrescue/files/2012/08/blog.listenkid0820.jpg"/>
          <p:cNvPicPr/>
          <p:nvPr/>
        </p:nvPicPr>
        <p:blipFill>
          <a:blip r:embed="rId4"/>
          <a:stretch/>
        </p:blipFill>
        <p:spPr>
          <a:xfrm>
            <a:off x="103320" y="4114800"/>
            <a:ext cx="2295360" cy="1530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ttp://www.infobuild.co.za/wp-content/uploads/lift_up_celebration.png"/>
          <p:cNvPicPr/>
          <p:nvPr/>
        </p:nvPicPr>
        <p:blipFill>
          <a:blip r:embed="rId5"/>
          <a:stretch/>
        </p:blipFill>
        <p:spPr>
          <a:xfrm>
            <a:off x="6934320" y="4416480"/>
            <a:ext cx="204624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9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1109520" y="3439440"/>
            <a:ext cx="82029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Lección 3: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¿Estamos dispuestos 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nfocarnos en los demás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936800" y="1150560"/>
            <a:ext cx="631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ómo ganarse 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 g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1244880" y="1297800"/>
            <a:ext cx="380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708200" y="2399040"/>
            <a:ext cx="683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Usualmente me enfoco en l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más y en sus intereses, o 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foco en mí mism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188640" y="81360"/>
            <a:ext cx="7299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ÚMERO 1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er lo mejor de la gente casi siemp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ca a relucir lo mejor de la g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572000" y="2228040"/>
            <a:ext cx="43815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personas generalmente responden a las expectativas que sienten que los líderes tienen de ella. Los líderes deben poner un número “10” imaginario en la frente de todo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4"/>
          <p:cNvGrpSpPr/>
          <p:nvPr/>
        </p:nvGrpSpPr>
        <p:grpSpPr>
          <a:xfrm>
            <a:off x="152280" y="2057400"/>
            <a:ext cx="4191120" cy="4724280"/>
            <a:chOff x="152280" y="2057400"/>
            <a:chExt cx="4191120" cy="4724280"/>
          </a:xfrm>
        </p:grpSpPr>
        <p:pic>
          <p:nvPicPr>
            <p:cNvPr id="138" name="Picture 2" descr="ttp://images.clipartpanda.com/friendship-clipart-9Tpeeop8c.jpeg"/>
            <p:cNvPicPr/>
            <p:nvPr/>
          </p:nvPicPr>
          <p:blipFill>
            <a:blip r:embed="rId1"/>
            <a:srcRect l="16640" t="407" r="17312" b="1335"/>
            <a:stretch/>
          </p:blipFill>
          <p:spPr>
            <a:xfrm>
              <a:off x="152280" y="2061360"/>
              <a:ext cx="4191120" cy="472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6" descr="ttp://www.clker.com/cliparts/y/2/P/1/q/r/pink-tilted-tiara-and-number-10-hi.png"/>
            <p:cNvPicPr/>
            <p:nvPr/>
          </p:nvPicPr>
          <p:blipFill>
            <a:blip r:embed="rId2"/>
            <a:stretch/>
          </p:blipFill>
          <p:spPr>
            <a:xfrm>
              <a:off x="2995200" y="2057400"/>
              <a:ext cx="730800" cy="666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451440" y="155880"/>
            <a:ext cx="806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Bernabé y Mar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Hechos 15:36-39; II Timoteo 4: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"/>
          <p:cNvSpPr/>
          <p:nvPr/>
        </p:nvSpPr>
        <p:spPr>
          <a:xfrm>
            <a:off x="0" y="1219320"/>
            <a:ext cx="905184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Bernabé era un gran líder en el Nuevo Testamento, de hecho su nombre significa: el hijo de consolación. Les daba su dinero, su tiempo, ánimo y creencias a los demás, aun cuando esas personas mostraran pequeñas señales de tener un gran potencial. Por ejemplo, Juan Marcos era un joven que andaba con Pablo y Bernabé en un viaje de misiones, pero debido al miedo y la inmadurez, Marcos se dio por vencido y regresó a casa. Pablo se rehusó a llevarlo en otro viaje, no quería darle a este hombre una segunda oportunidad. Sin embargo, Bernabé vio el potencial y tomó a Marcos bajo su tutela hasta que floreció. Años después, Pablo estaba en la prisión y se dio cuenta del valor de Juan Marcos, a tal punto que pidió que lo mandaran a la cárcel en que se encontraba para que le ayudara (II Timoteo 4:11).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451440" y="155880"/>
            <a:ext cx="806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Bernabé y Mar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Hechos 15:36-39; II Timoteo 4: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660960" y="1495440"/>
            <a:ext cx="74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rnabé vio potencial que otros no veí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609480" y="2145600"/>
            <a:ext cx="721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rnabé mostró gracia cuando 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tían que nadie la merecí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582480" y="3228840"/>
            <a:ext cx="4724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rnabé encontró oportunidades para que la gente experimentara resultados y éxi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ttp://childrenschapel.org/biblestories/graphics/002-paul-antioch-philippi300x225.jpg"/>
          <p:cNvPicPr/>
          <p:nvPr/>
        </p:nvPicPr>
        <p:blipFill>
          <a:blip r:embed="rId1"/>
          <a:srcRect l="13295" t="0" r="12794" b="0"/>
          <a:stretch/>
        </p:blipFill>
        <p:spPr>
          <a:xfrm>
            <a:off x="5486400" y="3178080"/>
            <a:ext cx="356544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68400" y="179280"/>
            <a:ext cx="907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dades acerca del principio del número 1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152280" y="993600"/>
            <a:ext cx="8763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uestr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EPCIÓ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en algunas personas n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berían detenernos en creer en la gent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579840" y="2444400"/>
            <a:ext cx="40417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Un corazón confiado está emocionalment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SALUD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 No se convierta en un líd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confi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152280" y="5064840"/>
            <a:ext cx="54104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s comportamos de acuerdo a nuestras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REENCIAS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  Cultive una fe saludable y un optimismo en los demá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ttp://www.clipartbest.com/cliparts/4c9/KRA/4c9KRAgcE.gif"/>
          <p:cNvPicPr/>
          <p:nvPr/>
        </p:nvPicPr>
        <p:blipFill>
          <a:blip r:embed="rId1"/>
          <a:stretch/>
        </p:blipFill>
        <p:spPr>
          <a:xfrm>
            <a:off x="7772400" y="762120"/>
            <a:ext cx="1295280" cy="2209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" descr=""/>
          <p:cNvPicPr/>
          <p:nvPr/>
        </p:nvPicPr>
        <p:blipFill>
          <a:blip r:embed="rId2"/>
          <a:stretch/>
        </p:blipFill>
        <p:spPr>
          <a:xfrm>
            <a:off x="228600" y="2111400"/>
            <a:ext cx="3200400" cy="2739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3"/>
          <a:stretch/>
        </p:blipFill>
        <p:spPr>
          <a:xfrm>
            <a:off x="5537160" y="4854600"/>
            <a:ext cx="307332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533520" y="533520"/>
            <a:ext cx="8153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«Trate a un hombre como aparenta ser y lo hará peor persona. Pero trate a un hombre como si ya fuera lo que potencialmente puede llegar a ser, y lo hará el hombre que debiese ser»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hann Wolfgang Von Goe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5"/>
          <p:cNvSpPr/>
          <p:nvPr/>
        </p:nvSpPr>
        <p:spPr>
          <a:xfrm>
            <a:off x="1315080" y="1175760"/>
            <a:ext cx="38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970640" y="2815560"/>
            <a:ext cx="70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Creo lo mejor de los demá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04920" y="58860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El principio de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FRONT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esarse en las personas debe prece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confrontar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ttp://www.mccaonline.com/wp-content/uploads/Intervention.jpg"/>
          <p:cNvPicPr/>
          <p:nvPr/>
        </p:nvPicPr>
        <p:blipFill>
          <a:blip r:embed="rId1"/>
          <a:stretch/>
        </p:blipFill>
        <p:spPr>
          <a:xfrm>
            <a:off x="1585800" y="3048120"/>
            <a:ext cx="603432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-22320" y="77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Natán y David (II Sam 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152280" y="214452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án había estado escuchando de D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152280" y="275436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Natán conocía las circunstancias de Davi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152280" y="3392640"/>
            <a:ext cx="3657600" cy="346536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4191120" y="3316320"/>
            <a:ext cx="478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Natán fue objetivo en su perspectiva (v.7-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4114800" y="445932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Natán comprendía la raíz del asunto (v.9-1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4114800" y="5478840"/>
            <a:ext cx="4937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Natán vio la causa y el efecto máximo del pecado de David (v.14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42840" y="700920"/>
            <a:ext cx="9078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prendemos lo siguiente del profeta Natán mientras confrontaba al rey David después de que hubiera pecado con Betsabé: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5"/>
          <p:cNvSpPr/>
          <p:nvPr/>
        </p:nvSpPr>
        <p:spPr>
          <a:xfrm>
            <a:off x="184320" y="306000"/>
            <a:ext cx="758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pa para la confrontación salud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2440" y="1161720"/>
            <a:ext cx="890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ronte a las personas con el cariño q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 tiene, mostrando su interés por e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04920" y="2487240"/>
            <a:ext cx="780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sque primero el entendimiento, 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cesariamente estar de acuerd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304920" y="38034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erden un plan de a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5246640" y="3809880"/>
            <a:ext cx="382104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214200" y="201960"/>
            <a:ext cx="8701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is principios sociales que responden la pregunta de la relación: ¿ESTAMOS DISPUESTOS A ENFOCARNOS EN LOS DEMÁ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228600" y="1753920"/>
            <a:ext cx="75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El principio de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PECTIV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3516840"/>
            <a:ext cx="4890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da la población, con una pequeña excepción, está compuesta por los demás seres huma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" descr=""/>
          <p:cNvPicPr/>
          <p:nvPr/>
        </p:nvPicPr>
        <p:blipFill>
          <a:blip r:embed="rId1"/>
          <a:srcRect l="7728" t="11849" r="8902" b="11358"/>
          <a:stretch/>
        </p:blipFill>
        <p:spPr>
          <a:xfrm>
            <a:off x="4952880" y="2700360"/>
            <a:ext cx="40528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5"/>
          <p:cNvSpPr/>
          <p:nvPr/>
        </p:nvSpPr>
        <p:spPr>
          <a:xfrm>
            <a:off x="1396080" y="1221840"/>
            <a:ext cx="36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1143000" y="23554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Me importa lo suficiente como p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rontar de la manera correc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0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9360" y="533520"/>
            <a:ext cx="9058320" cy="15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 principio de l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ERSPECTIVA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Toda la población, con una pequeña excepción, está compuesta por los demás seres human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162000" y="0"/>
            <a:ext cx="905832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ncipios de Conne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76320" y="1862640"/>
            <a:ext cx="8991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CAMBI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Debemos ponernos nosotros en el lugar de otr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52280" y="2813760"/>
            <a:ext cx="8915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PRENDIZAJ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Cada persona que conocemos tiene el potencial de enseñarnos alg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76320" y="3846600"/>
            <a:ext cx="891540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ARISMA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: La gente se interesa en la persona que se interesa en el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52280" y="4821120"/>
            <a:ext cx="9068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NÚMERO 10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Creer lo mejor de la gente casi siempre saca a relucir lo mejor de la gen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76320" y="5901480"/>
            <a:ext cx="8610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6. El principio de l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ONFRONTACIÓ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: Interesarse en las personas debe preceder a confrontarl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0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5"/>
          <p:cNvSpPr/>
          <p:nvPr/>
        </p:nvSpPr>
        <p:spPr>
          <a:xfrm>
            <a:off x="1079280" y="1068120"/>
            <a:ext cx="26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ció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1870920" y="1757880"/>
            <a:ext cx="6906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Cuál de estos principios rela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ctica mejo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En cuál es usted más débi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990720" y="3677400"/>
            <a:ext cx="290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licació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1752480" y="4383360"/>
            <a:ext cx="711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criba el paso que debería tomar pa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jorar su relación con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0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1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6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344520" y="328896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152280" y="15480"/>
            <a:ext cx="883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la mayoría de la gente, incluyendo a los líderes, les resulta difícil vivir más allá de su mundo pequeñ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 romper el molde, los líderes deben reunir tres recurs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147960" y="3303360"/>
            <a:ext cx="361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PECTIV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64880" y="4294080"/>
            <a:ext cx="28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DUREZ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99440" y="5437080"/>
            <a:ext cx="46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SPONSABILID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4900680" y="2995560"/>
            <a:ext cx="424008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111600" y="4320"/>
            <a:ext cx="869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Nabudocono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 el imperio babilónico (Daniel 4:1-3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"/>
          <p:cNvSpPr/>
          <p:nvPr/>
        </p:nvSpPr>
        <p:spPr>
          <a:xfrm>
            <a:off x="76320" y="114300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Una ilustración clásica de un líder que falló en practicar este principio, es el rey Nabucodonosor. Después de que su ejército capturó a los ciudadanos de Israel, este rey escogió a los mejores jóvenes israelitas y comenzó a presionarlos para que cedieran a lo que él deseara. De hecho, la población entera de Babilonia se volvió arrogante y presuntuosa, reinaron esa porción del mundo por mucho años. El rey Nabucodonosor mostró ser uno de los reyes más arrogantes de la historia y Dios tuvo que tratar con él de la manera más inusual, lo llevó de su posición de rey a vivir como un animal en el campo. Permaneció allí hasta que reconoció completamente a Dios como el gobernante supremo del mundo. Tuvo que aprender a someterse, a renunciar a tener el control y volverse dócil. En Daniel 4:36-37, el rey Nabucodonosor fue un líder diferente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111600" y="4320"/>
            <a:ext cx="869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Nabudocono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 el imperio babilónico (Daniel 4:1-3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374040" y="1146240"/>
            <a:ext cx="735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e cómo desarrolló una perspectiva 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adro comple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18240" y="2287440"/>
            <a:ext cx="45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labras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RATIT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316080" y="2897280"/>
            <a:ext cx="377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Perspectiv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Ó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354600" y="3446280"/>
            <a:ext cx="371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Corazó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UMIL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ttp://hispresenceonline.org/wp-content/uploads/2015/03/1-NEBUCHADNEZZAR-720x340.jpg"/>
          <p:cNvPicPr/>
          <p:nvPr/>
        </p:nvPicPr>
        <p:blipFill>
          <a:blip r:embed="rId1"/>
          <a:stretch/>
        </p:blipFill>
        <p:spPr>
          <a:xfrm>
            <a:off x="3505320" y="4119480"/>
            <a:ext cx="563868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1091160" y="1297800"/>
            <a:ext cx="36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1478520" y="2507760"/>
            <a:ext cx="693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Me cuesta trabajo poner a otr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mer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76320" y="157680"/>
            <a:ext cx="723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RCAMBI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En vez de poner a otros en su lugar, debemos ponernos nosotros en el lugar de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7307280" y="12600"/>
            <a:ext cx="1828800" cy="179712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9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1"/>
          <p:cNvSpPr/>
          <p:nvPr/>
        </p:nvSpPr>
        <p:spPr>
          <a:xfrm>
            <a:off x="3049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"/>
          <p:cNvSpPr/>
          <p:nvPr/>
        </p:nvSpPr>
        <p:spPr>
          <a:xfrm>
            <a:off x="144360" y="1962000"/>
            <a:ext cx="89917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l éxito puede traer muchas cosas: poder, prestigio, fama y riqueza. Tristemente así como los líderes ascienden a su posición, se olvidan del lugar de dónde vinieron. Al viajar por el mundo, nuestro equipo de EQUIP ha observado que muchos líderes abusan de aquellos que están a su cargo, por lo que el liderazgo se convierte en una travesía de poder. Tanto es así que entre más pobreza haya en un país, más abuso, y esto no es un modelo bíblico de liderazgo.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9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1"/>
          <p:cNvSpPr/>
          <p:nvPr/>
        </p:nvSpPr>
        <p:spPr>
          <a:xfrm>
            <a:off x="3049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152280" y="152280"/>
            <a:ext cx="8991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ús, el líder supremo, nació en un establo, y jamás sintió que fuera demasiado importante como para servir a los pobres o discapacitados; de hecho, frecuentemente comía con las personas de clase más baja en la sociedad. A pesar de ser el líder perfecto, su meta no era poner a las personas en su lugar, recordándoles lo imperfectas que eran; por el contrario, se puso en su lugar, caminó por donde ellos caminaron, interactuó con ellos en su lenguaje cotidiano y sufrió lo que ellos sufrieron (Hebreos 4:15). ¿Por qué los líderes fallan en practicar esto? Es sencillo, por naturaleza no nos vemos a nosotros mismos y a los demás desde la misma perspectiva; cuando fallamos en ver las cosas desde la perspectiva de los demás, fallamos en nuestras relaciones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0:41:50Z</dcterms:created>
  <dc:creator>montecyr@yahoo.com</dc:creator>
  <dc:description/>
  <dc:language>en-US</dc:language>
  <cp:lastModifiedBy>Monte Cyr</cp:lastModifiedBy>
  <dcterms:modified xsi:type="dcterms:W3CDTF">2021-02-19T21:20:20Z</dcterms:modified>
  <cp:revision>16</cp:revision>
  <dc:subject/>
  <dc:title>PowerPoint Presentation</dc:title>
</cp:coreProperties>
</file>