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0.xml.rels" ContentType="application/vnd.openxmlformats-package.relationships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.jpeg" ContentType="image/jpeg"/>
  <Override PartName="/ppt/media/image22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E38DC-E8C6-4B98-AF46-A59A4E1B9049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C8F40-8A32-44CC-A4DA-AA7A792DCB38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9D274-7EBD-4339-A289-C32EF7F6D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C6DF9-B007-490C-B65F-3AAF2C189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02779-C61A-4532-9958-B199A5CB1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8F42C-EA54-4B35-8C7B-4056A57F1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8DDF0-AA9B-4C8E-837D-ABB982E24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7C246-EBC2-4156-B64A-2AA5ACD6E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C5E44-04FF-4E76-9FA2-57A4CB8F9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F6F15-6C7E-4059-93C0-A7EF4E8F9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67F9D-77EE-4E5A-8786-11DF8551C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F217C-76C5-4F39-B563-E30999E10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34E8F-3B70-458B-8F3C-FA48FA852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196FF-3074-426C-8640-CEB413AF2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959BC-FBD1-4CF6-87F3-006C5DE96F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5"/>
          <p:cNvSpPr/>
          <p:nvPr/>
        </p:nvSpPr>
        <p:spPr>
          <a:xfrm>
            <a:off x="0" y="155520"/>
            <a:ext cx="914400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Arial"/>
              </a:rPr>
              <a:t>Cuando los líderes hurgan más profundo,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Arial"/>
              </a:rPr>
              <a:t>pueden descubrir por qué no los sigue más gente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6"/>
          <p:cNvSpPr/>
          <p:nvPr/>
        </p:nvSpPr>
        <p:spPr>
          <a:xfrm>
            <a:off x="228600" y="1410480"/>
            <a:ext cx="58672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Arial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uando la gente lo respeta como </a:t>
            </a:r>
            <a:br>
              <a:rPr sz="2600"/>
            </a:b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   amigo, lo 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MAN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7"/>
          <p:cNvSpPr/>
          <p:nvPr/>
        </p:nvSpPr>
        <p:spPr>
          <a:xfrm>
            <a:off x="3429000" y="3658680"/>
            <a:ext cx="5486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Cuando la gente lo respeta como persona, lo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DMIR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8"/>
          <p:cNvSpPr/>
          <p:nvPr/>
        </p:nvSpPr>
        <p:spPr>
          <a:xfrm>
            <a:off x="228600" y="5420520"/>
            <a:ext cx="5410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3. Cuando la gente lo respeta como líder, lo 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SIGUEN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1" descr=""/>
          <p:cNvPicPr/>
          <p:nvPr/>
        </p:nvPicPr>
        <p:blipFill>
          <a:blip r:embed="rId1"/>
          <a:stretch/>
        </p:blipFill>
        <p:spPr>
          <a:xfrm>
            <a:off x="6477120" y="1387440"/>
            <a:ext cx="2286000" cy="19573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8" descr="ttp://diginomica.com/wp-content/uploads/2014/12/leader.jpg"/>
          <p:cNvPicPr/>
          <p:nvPr/>
        </p:nvPicPr>
        <p:blipFill>
          <a:blip r:embed="rId2"/>
          <a:stretch/>
        </p:blipFill>
        <p:spPr>
          <a:xfrm>
            <a:off x="85680" y="2743200"/>
            <a:ext cx="3191040" cy="25131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"/>
          <p:cNvPicPr/>
          <p:nvPr/>
        </p:nvPicPr>
        <p:blipFill>
          <a:blip r:embed="rId3"/>
          <a:srcRect l="0" t="0" r="-2794" b="0"/>
          <a:stretch/>
        </p:blipFill>
        <p:spPr>
          <a:xfrm>
            <a:off x="5486400" y="4724280"/>
            <a:ext cx="3249720" cy="19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0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5"/>
          <p:cNvSpPr/>
          <p:nvPr/>
        </p:nvSpPr>
        <p:spPr>
          <a:xfrm>
            <a:off x="76320" y="80640"/>
            <a:ext cx="9012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as razones por las cuales muchos líderes no se han ganado el respeto de la gente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6"/>
          <p:cNvSpPr/>
          <p:nvPr/>
        </p:nvSpPr>
        <p:spPr>
          <a:xfrm>
            <a:off x="133200" y="1405080"/>
            <a:ext cx="6267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buClr>
                <a:srgbClr val="ffffff"/>
              </a:buClr>
              <a:buFont typeface="Arial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iensan que su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STATU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o su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TÍTULO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garantizan el respe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7"/>
          <p:cNvSpPr/>
          <p:nvPr/>
        </p:nvSpPr>
        <p:spPr>
          <a:xfrm>
            <a:off x="4359240" y="3205440"/>
            <a:ext cx="4632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Piensa que la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DA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o la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PERIENCI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garantizan el respe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8"/>
          <p:cNvSpPr/>
          <p:nvPr/>
        </p:nvSpPr>
        <p:spPr>
          <a:xfrm>
            <a:off x="133200" y="4914720"/>
            <a:ext cx="6039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 Su necesidad de ser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CEPTADOS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por los demás es más grande que su necesidad de ser respetado por ell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1" descr=""/>
          <p:cNvPicPr/>
          <p:nvPr/>
        </p:nvPicPr>
        <p:blipFill>
          <a:blip r:embed="rId1"/>
          <a:srcRect l="-917" t="0" r="0" b="0"/>
          <a:stretch/>
        </p:blipFill>
        <p:spPr>
          <a:xfrm>
            <a:off x="7010280" y="1263600"/>
            <a:ext cx="1646280" cy="17366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8" descr="ttp://1.bp.blogspot.com/-lKUc2tu8A3g/UA1UEYYUSnI/AAAAAAAAAQo/PkV7xN4EBwY/s1600/board_meet.gif"/>
          <p:cNvPicPr/>
          <p:nvPr/>
        </p:nvPicPr>
        <p:blipFill>
          <a:blip r:embed="rId2"/>
          <a:srcRect l="0" t="0" r="0" b="28705"/>
          <a:stretch/>
        </p:blipFill>
        <p:spPr>
          <a:xfrm>
            <a:off x="380880" y="2732040"/>
            <a:ext cx="3591000" cy="19162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3" descr=""/>
          <p:cNvPicPr/>
          <p:nvPr/>
        </p:nvPicPr>
        <p:blipFill>
          <a:blip r:embed="rId3"/>
          <a:stretch/>
        </p:blipFill>
        <p:spPr>
          <a:xfrm>
            <a:off x="6765840" y="4800600"/>
            <a:ext cx="1768680" cy="19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0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5"/>
          <p:cNvSpPr/>
          <p:nvPr/>
        </p:nvSpPr>
        <p:spPr>
          <a:xfrm>
            <a:off x="273600" y="146160"/>
            <a:ext cx="835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Edificando el respeto en su liderazgo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6"/>
          <p:cNvSpPr/>
          <p:nvPr/>
        </p:nvSpPr>
        <p:spPr>
          <a:xfrm>
            <a:off x="228600" y="1517400"/>
            <a:ext cx="5715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. Respétese 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A SÍ MISMO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y a los demá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7"/>
          <p:cNvSpPr/>
          <p:nvPr/>
        </p:nvSpPr>
        <p:spPr>
          <a:xfrm>
            <a:off x="228600" y="3632040"/>
            <a:ext cx="8305920" cy="28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 intente ser siempre popular. No es posible agradarles a todos, por el contrario es mucho más importante agradarse a sí mismo. Cuando usted se respeta a sí mismo, curiosamente, tendrá más respeto que si lo buscara de otro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" descr=""/>
          <p:cNvPicPr/>
          <p:nvPr/>
        </p:nvPicPr>
        <p:blipFill>
          <a:blip r:embed="rId1"/>
          <a:stretch/>
        </p:blipFill>
        <p:spPr>
          <a:xfrm>
            <a:off x="6324480" y="892080"/>
            <a:ext cx="2103480" cy="261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0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5"/>
          <p:cNvSpPr/>
          <p:nvPr/>
        </p:nvSpPr>
        <p:spPr>
          <a:xfrm>
            <a:off x="273600" y="146160"/>
            <a:ext cx="835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Edificando el respeto en su liderazgo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7"/>
          <p:cNvSpPr/>
          <p:nvPr/>
        </p:nvSpPr>
        <p:spPr>
          <a:xfrm>
            <a:off x="259200" y="1119240"/>
            <a:ext cx="553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speto a mí mismo significa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8"/>
          <p:cNvSpPr/>
          <p:nvPr/>
        </p:nvSpPr>
        <p:spPr>
          <a:xfrm>
            <a:off x="1023480" y="214452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Arial"/>
              <a:buAutoNum type="alphaL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ntiendo quién soy en Cris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9"/>
          <p:cNvSpPr/>
          <p:nvPr/>
        </p:nvSpPr>
        <p:spPr>
          <a:xfrm>
            <a:off x="990720" y="3087720"/>
            <a:ext cx="768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. Aprecio y sé mis talentos y dones que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Dios me ha da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0"/>
          <p:cNvSpPr/>
          <p:nvPr/>
        </p:nvSpPr>
        <p:spPr>
          <a:xfrm>
            <a:off x="1031040" y="4307040"/>
            <a:ext cx="7115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. Usualmente me desempeño bien en 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baj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1"/>
          <p:cNvSpPr/>
          <p:nvPr/>
        </p:nvSpPr>
        <p:spPr>
          <a:xfrm>
            <a:off x="1035000" y="5555160"/>
            <a:ext cx="7767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. No tomo de manera personal cada fraca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 crític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1" descr=""/>
          <p:cNvPicPr/>
          <p:nvPr/>
        </p:nvPicPr>
        <p:blipFill>
          <a:blip r:embed="rId1"/>
          <a:stretch/>
        </p:blipFill>
        <p:spPr>
          <a:xfrm>
            <a:off x="7345440" y="927000"/>
            <a:ext cx="1646280" cy="20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0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5"/>
          <p:cNvSpPr/>
          <p:nvPr/>
        </p:nvSpPr>
        <p:spPr>
          <a:xfrm>
            <a:off x="267480" y="77760"/>
            <a:ext cx="7570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El respeto a los demás significa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6"/>
          <p:cNvSpPr/>
          <p:nvPr/>
        </p:nvSpPr>
        <p:spPr>
          <a:xfrm>
            <a:off x="541440" y="1027440"/>
            <a:ext cx="5859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oy cuidadoso de no herir el respeto o la dignidad de nadi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7"/>
          <p:cNvSpPr/>
          <p:nvPr/>
        </p:nvSpPr>
        <p:spPr>
          <a:xfrm>
            <a:off x="533520" y="2673720"/>
            <a:ext cx="6286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buClr>
                <a:srgbClr val="ffffff"/>
              </a:buClr>
              <a:buFont typeface="Arial"/>
              <a:buAutoNum type="alphaL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uedo ver a cada persona como alguien creado por Dios y talentos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8"/>
          <p:cNvSpPr/>
          <p:nvPr/>
        </p:nvSpPr>
        <p:spPr>
          <a:xfrm>
            <a:off x="457200" y="4412880"/>
            <a:ext cx="8607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33440" indent="-433440">
              <a:buClr>
                <a:srgbClr val="ffffff"/>
              </a:buClr>
              <a:buFont typeface="Arial"/>
              <a:buAutoNum type="alphaL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uedo ver más allá de las fallas de otros, y ver sus necesidades y su potenci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9"/>
          <p:cNvSpPr/>
          <p:nvPr/>
        </p:nvSpPr>
        <p:spPr>
          <a:xfrm>
            <a:off x="457200" y="5708160"/>
            <a:ext cx="8534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33440" indent="-433440">
              <a:buClr>
                <a:srgbClr val="ffffff"/>
              </a:buClr>
              <a:buFont typeface="Arial"/>
              <a:buAutoNum type="alphaL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tento tratar a todos los que conozco como si fueran muy importan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1" descr=""/>
          <p:cNvPicPr/>
          <p:nvPr/>
        </p:nvPicPr>
        <p:blipFill>
          <a:blip r:embed="rId1"/>
          <a:stretch/>
        </p:blipFill>
        <p:spPr>
          <a:xfrm>
            <a:off x="6700680" y="914400"/>
            <a:ext cx="229104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0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0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1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1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2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3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3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5"/>
          <p:cNvSpPr/>
          <p:nvPr/>
        </p:nvSpPr>
        <p:spPr>
          <a:xfrm>
            <a:off x="324720" y="384480"/>
            <a:ext cx="3838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Discusión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6"/>
          <p:cNvSpPr/>
          <p:nvPr/>
        </p:nvSpPr>
        <p:spPr>
          <a:xfrm>
            <a:off x="888480" y="1758240"/>
            <a:ext cx="7913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¿Muestra generalmente respeto 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los demás o falla en mostrarlo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¿Por qué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8"/>
          <p:cNvSpPr/>
          <p:nvPr/>
        </p:nvSpPr>
        <p:spPr>
          <a:xfrm>
            <a:off x="888480" y="4061880"/>
            <a:ext cx="7733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é ejemplos de cómo le muestr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respeto a los demá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0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5"/>
          <p:cNvSpPr/>
          <p:nvPr/>
        </p:nvSpPr>
        <p:spPr>
          <a:xfrm>
            <a:off x="66600" y="952200"/>
            <a:ext cx="790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. Exceda las 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EXPECTATIVAS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de otr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6"/>
          <p:cNvSpPr/>
          <p:nvPr/>
        </p:nvSpPr>
        <p:spPr>
          <a:xfrm>
            <a:off x="638640" y="1668240"/>
            <a:ext cx="793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ómo exceder las expectativas de los demá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570240" y="2262240"/>
            <a:ext cx="678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Arial"/>
              <a:buAutoNum type="alphaL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tablezca normas personales alt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573480" y="2871720"/>
            <a:ext cx="715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. Conozca la expectativas de los demá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576360" y="3468240"/>
            <a:ext cx="7835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. Cumpla esas expectativas y vaya aún má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ej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0"/>
          <p:cNvSpPr/>
          <p:nvPr/>
        </p:nvSpPr>
        <p:spPr>
          <a:xfrm>
            <a:off x="533520" y="4469040"/>
            <a:ext cx="44956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. Termine cada tarea o proyecto y luego pregunte: ¿Qué más se puede hacer para sorprender a todos?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10" descr="ttp://www.callcentrehelper.com/images/stories/2010/exceed-expectations-510.jpg"/>
          <p:cNvPicPr/>
          <p:nvPr/>
        </p:nvPicPr>
        <p:blipFill>
          <a:blip r:embed="rId1"/>
          <a:stretch/>
        </p:blipFill>
        <p:spPr>
          <a:xfrm>
            <a:off x="5029200" y="4267080"/>
            <a:ext cx="3882960" cy="240984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5"/>
          <p:cNvSpPr/>
          <p:nvPr/>
        </p:nvSpPr>
        <p:spPr>
          <a:xfrm>
            <a:off x="273600" y="146160"/>
            <a:ext cx="835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Edificando el respeto en su liderazgo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0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5"/>
          <p:cNvSpPr/>
          <p:nvPr/>
        </p:nvSpPr>
        <p:spPr>
          <a:xfrm>
            <a:off x="1087200" y="870840"/>
            <a:ext cx="4029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Discusión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: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6"/>
          <p:cNvSpPr/>
          <p:nvPr/>
        </p:nvSpPr>
        <p:spPr>
          <a:xfrm>
            <a:off x="1219320" y="2137680"/>
            <a:ext cx="7924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¿De qué manera excede las expectativas de los demás como líder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0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5"/>
          <p:cNvSpPr/>
          <p:nvPr/>
        </p:nvSpPr>
        <p:spPr>
          <a:xfrm>
            <a:off x="76320" y="651960"/>
            <a:ext cx="9067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3. Manténgase firme en sus convicciones y 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PRINCIPIOS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6"/>
          <p:cNvSpPr/>
          <p:nvPr/>
        </p:nvSpPr>
        <p:spPr>
          <a:xfrm>
            <a:off x="152280" y="1182960"/>
            <a:ext cx="8696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erdades que los líderes eficientes saben cuando dirigen a la gent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7"/>
          <p:cNvSpPr/>
          <p:nvPr/>
        </p:nvSpPr>
        <p:spPr>
          <a:xfrm>
            <a:off x="228600" y="2173320"/>
            <a:ext cx="8763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ted debe aprender a separar las opiniones de las conviccio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8"/>
          <p:cNvSpPr/>
          <p:nvPr/>
        </p:nvSpPr>
        <p:spPr>
          <a:xfrm>
            <a:off x="228600" y="3065040"/>
            <a:ext cx="8915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. No puede ser un líder eficiente si no sabe lo que cre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9"/>
          <p:cNvSpPr/>
          <p:nvPr/>
        </p:nvSpPr>
        <p:spPr>
          <a:xfrm>
            <a:off x="237960" y="3965760"/>
            <a:ext cx="8906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. Debe mostrar el camino y liderar a través del ejemplo para ganarse el respe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10"/>
          <p:cNvSpPr/>
          <p:nvPr/>
        </p:nvSpPr>
        <p:spPr>
          <a:xfrm>
            <a:off x="152280" y="4974120"/>
            <a:ext cx="5114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. Únicamente si está dispuesto a morir por algo, usted es realmente digno de vivi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5"/>
          <p:cNvSpPr/>
          <p:nvPr/>
        </p:nvSpPr>
        <p:spPr>
          <a:xfrm>
            <a:off x="265680" y="62640"/>
            <a:ext cx="656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dificando el respeto en su liderazg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10" descr="Image result for estad firmes"/>
          <p:cNvPicPr/>
          <p:nvPr/>
        </p:nvPicPr>
        <p:blipFill>
          <a:blip r:embed="rId1"/>
          <a:stretch/>
        </p:blipFill>
        <p:spPr>
          <a:xfrm>
            <a:off x="5267160" y="4861080"/>
            <a:ext cx="3733920" cy="192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nodeType="clickEffect" fill="hold">
                      <p:stCondLst>
                        <p:cond delay="0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5"/>
          <p:cNvSpPr/>
          <p:nvPr/>
        </p:nvSpPr>
        <p:spPr>
          <a:xfrm>
            <a:off x="1163520" y="870840"/>
            <a:ext cx="4029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Discusión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: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7"/>
          <p:cNvSpPr/>
          <p:nvPr/>
        </p:nvSpPr>
        <p:spPr>
          <a:xfrm>
            <a:off x="1572840" y="1848240"/>
            <a:ext cx="727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¿Cuáles son sus conviccion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rincipales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8"/>
          <p:cNvSpPr/>
          <p:nvPr/>
        </p:nvSpPr>
        <p:spPr>
          <a:xfrm>
            <a:off x="1568880" y="3810960"/>
            <a:ext cx="60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¿Qué es lo que defiend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nodeType="clickEffect" fill="hold">
                      <p:stCondLst>
                        <p:cond delay="0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4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5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5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"/>
          <p:cNvPicPr/>
          <p:nvPr/>
        </p:nvPicPr>
        <p:blipFill>
          <a:blip r:embed="rId1"/>
          <a:stretch/>
        </p:blipFill>
        <p:spPr>
          <a:xfrm>
            <a:off x="46080" y="304920"/>
            <a:ext cx="9097920" cy="58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5"/>
          <p:cNvSpPr/>
          <p:nvPr/>
        </p:nvSpPr>
        <p:spPr>
          <a:xfrm>
            <a:off x="152280" y="983880"/>
            <a:ext cx="8855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. Posea una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MADUREZ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que sea mucho mayor que su edad y experienc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6"/>
          <p:cNvSpPr/>
          <p:nvPr/>
        </p:nvSpPr>
        <p:spPr>
          <a:xfrm>
            <a:off x="174600" y="2236680"/>
            <a:ext cx="523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inco signos de madurez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7"/>
          <p:cNvSpPr/>
          <p:nvPr/>
        </p:nvSpPr>
        <p:spPr>
          <a:xfrm>
            <a:off x="322560" y="2998440"/>
            <a:ext cx="39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. Responsabilida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8"/>
          <p:cNvSpPr/>
          <p:nvPr/>
        </p:nvSpPr>
        <p:spPr>
          <a:xfrm>
            <a:off x="316440" y="3760560"/>
            <a:ext cx="268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. Confianz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9"/>
          <p:cNvSpPr/>
          <p:nvPr/>
        </p:nvSpPr>
        <p:spPr>
          <a:xfrm>
            <a:off x="318240" y="4446360"/>
            <a:ext cx="29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. Coherenci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10"/>
          <p:cNvSpPr/>
          <p:nvPr/>
        </p:nvSpPr>
        <p:spPr>
          <a:xfrm>
            <a:off x="316800" y="5284440"/>
            <a:ext cx="239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. Caráct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11"/>
          <p:cNvSpPr/>
          <p:nvPr/>
        </p:nvSpPr>
        <p:spPr>
          <a:xfrm>
            <a:off x="317520" y="6122880"/>
            <a:ext cx="273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. Segurida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11" descr="ttp://www.desmotivar.com/img/desmotivaciones/159731_la-madurez-esta-en-la-mente.jpg"/>
          <p:cNvPicPr/>
          <p:nvPr/>
        </p:nvPicPr>
        <p:blipFill>
          <a:blip r:embed="rId1"/>
          <a:stretch/>
        </p:blipFill>
        <p:spPr>
          <a:xfrm>
            <a:off x="5554800" y="2743200"/>
            <a:ext cx="3452760" cy="400068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5"/>
          <p:cNvSpPr/>
          <p:nvPr/>
        </p:nvSpPr>
        <p:spPr>
          <a:xfrm>
            <a:off x="263520" y="176760"/>
            <a:ext cx="745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dificando el respeto en su liderazgo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0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5"/>
          <p:cNvSpPr/>
          <p:nvPr/>
        </p:nvSpPr>
        <p:spPr>
          <a:xfrm>
            <a:off x="1163520" y="947160"/>
            <a:ext cx="4029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Discusión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: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6"/>
          <p:cNvSpPr/>
          <p:nvPr/>
        </p:nvSpPr>
        <p:spPr>
          <a:xfrm>
            <a:off x="1796040" y="2080800"/>
            <a:ext cx="625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¿Qué señales de madurez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emuestra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7"/>
          <p:cNvSpPr/>
          <p:nvPr/>
        </p:nvSpPr>
        <p:spPr>
          <a:xfrm>
            <a:off x="1752480" y="3546720"/>
            <a:ext cx="542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¿De cuáles carec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nodeType="clickEffect" fill="hold">
                      <p:stCondLst>
                        <p:cond delay="0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5"/>
          <p:cNvSpPr/>
          <p:nvPr/>
        </p:nvSpPr>
        <p:spPr>
          <a:xfrm>
            <a:off x="76320" y="878040"/>
            <a:ext cx="8762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 Experimente 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ÉXITO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en su carrera, familia y en su vida person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6"/>
          <p:cNvSpPr/>
          <p:nvPr/>
        </p:nvSpPr>
        <p:spPr>
          <a:xfrm>
            <a:off x="152280" y="1983240"/>
            <a:ext cx="53341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a definición de John Maxwell acerca del éxito es: “cuando aquellos que están más cerca de mí, son los que más me aman y me respetan”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10" descr="ttp://careersuccess.typepad.com/.a/6a0105360968fe970b012876bca67f970c-800wi"/>
          <p:cNvPicPr/>
          <p:nvPr/>
        </p:nvPicPr>
        <p:blipFill>
          <a:blip r:embed="rId1"/>
          <a:stretch/>
        </p:blipFill>
        <p:spPr>
          <a:xfrm>
            <a:off x="5511960" y="3187800"/>
            <a:ext cx="3479760" cy="347976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5"/>
          <p:cNvSpPr/>
          <p:nvPr/>
        </p:nvSpPr>
        <p:spPr>
          <a:xfrm>
            <a:off x="273240" y="191880"/>
            <a:ext cx="7730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dificando el respeto en su liderazgo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 (cont.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nodeType="clickEffect" fill="hold">
                      <p:stCondLst>
                        <p:cond delay="0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5"/>
          <p:cNvSpPr/>
          <p:nvPr/>
        </p:nvSpPr>
        <p:spPr>
          <a:xfrm>
            <a:off x="22320" y="595440"/>
            <a:ext cx="8762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 Experimente 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ÉXITO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en su carrera, familia y en su vida person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6"/>
          <p:cNvSpPr/>
          <p:nvPr/>
        </p:nvSpPr>
        <p:spPr>
          <a:xfrm>
            <a:off x="135000" y="1893960"/>
            <a:ext cx="9088200" cy="27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ara ganar el respeto como líder, el éxito debe…</a:t>
            </a:r>
            <a:br>
              <a:rPr sz="28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ffffff"/>
              </a:buClr>
              <a:buFont typeface="Arial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tar en la familia, en la carrera y en la vida personal. </a:t>
            </a:r>
            <a:br>
              <a:rPr sz="28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r notado por los demás sin que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l líder llame la atención.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10" descr="ttp://careersuccess.typepad.com/.a/6a0105360968fe970b012876bca67f970c-800wi"/>
          <p:cNvPicPr/>
          <p:nvPr/>
        </p:nvPicPr>
        <p:blipFill>
          <a:blip r:embed="rId1"/>
          <a:stretch/>
        </p:blipFill>
        <p:spPr>
          <a:xfrm>
            <a:off x="6621480" y="4208400"/>
            <a:ext cx="2387520" cy="238932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5"/>
          <p:cNvSpPr/>
          <p:nvPr/>
        </p:nvSpPr>
        <p:spPr>
          <a:xfrm>
            <a:off x="255600" y="71280"/>
            <a:ext cx="764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dificando el respeto en su liderazgo 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nodeType="clickEffect" fill="hold">
                      <p:stCondLst>
                        <p:cond delay="0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4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9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4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4120" y="1154160"/>
            <a:ext cx="227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usió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8"/>
          <p:cNvSpPr/>
          <p:nvPr/>
        </p:nvSpPr>
        <p:spPr>
          <a:xfrm>
            <a:off x="447840" y="1757880"/>
            <a:ext cx="8696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¿En dónde se encuentra más fuerte o más débil en las siguientes áreas: Vida personal / Vida familia / Carrera exitos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nodeType="clickEffect" fill="hold">
                      <p:stCondLst>
                        <p:cond delay="0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5"/>
          <p:cNvSpPr/>
          <p:nvPr/>
        </p:nvSpPr>
        <p:spPr>
          <a:xfrm>
            <a:off x="185040" y="772920"/>
            <a:ext cx="574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. Contribuya al éxito de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OTRO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6"/>
          <p:cNvSpPr/>
          <p:nvPr/>
        </p:nvSpPr>
        <p:spPr>
          <a:xfrm>
            <a:off x="76320" y="1440360"/>
            <a:ext cx="83055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No existe más noble ocupación en el mundo que ayudar a otro ser humano a lograr el éxito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an Loy McGinn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2"/>
          <p:cNvSpPr/>
          <p:nvPr/>
        </p:nvSpPr>
        <p:spPr>
          <a:xfrm>
            <a:off x="393840" y="3137040"/>
            <a:ext cx="50162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•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es agregamos valor a los demás cuando los valoramos verdaderament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3" descr=""/>
          <p:cNvPicPr/>
          <p:nvPr/>
        </p:nvPicPr>
        <p:blipFill>
          <a:blip r:embed="rId1"/>
          <a:stretch/>
        </p:blipFill>
        <p:spPr>
          <a:xfrm>
            <a:off x="5715000" y="3614760"/>
            <a:ext cx="3259080" cy="3219480"/>
          </a:xfrm>
          <a:prstGeom prst="rect">
            <a:avLst/>
          </a:prstGeom>
          <a:ln w="0">
            <a:noFill/>
          </a:ln>
        </p:spPr>
      </p:pic>
      <p:sp>
        <p:nvSpPr>
          <p:cNvPr id="150" name="Rectangle 5"/>
          <p:cNvSpPr/>
          <p:nvPr/>
        </p:nvSpPr>
        <p:spPr>
          <a:xfrm>
            <a:off x="273240" y="77760"/>
            <a:ext cx="7730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dificando el respeto en su liderazgo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 (cont.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nodeType="clickEffect" fill="hold">
                      <p:stCondLst>
                        <p:cond delay="0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1155240" y="1479600"/>
            <a:ext cx="217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usió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8"/>
          <p:cNvSpPr/>
          <p:nvPr/>
        </p:nvSpPr>
        <p:spPr>
          <a:xfrm>
            <a:off x="1023480" y="2136960"/>
            <a:ext cx="6290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¿Qué hace específicamente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para añadirles valor a los demás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nodeType="clickEffect" fill="hold">
                      <p:stCondLst>
                        <p:cond delay="0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179640" y="849240"/>
            <a:ext cx="64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7. Piense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ÁS ALLÁ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que los demás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6"/>
          <p:cNvSpPr/>
          <p:nvPr/>
        </p:nvSpPr>
        <p:spPr>
          <a:xfrm>
            <a:off x="273960" y="1449360"/>
            <a:ext cx="593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os líderes que ganan el respeto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163440" y="2395440"/>
            <a:ext cx="837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iensan más en grande que los demá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8"/>
          <p:cNvSpPr/>
          <p:nvPr/>
        </p:nvSpPr>
        <p:spPr>
          <a:xfrm>
            <a:off x="106200" y="3278160"/>
            <a:ext cx="839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iensan más allá que los demá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9"/>
          <p:cNvSpPr/>
          <p:nvPr/>
        </p:nvSpPr>
        <p:spPr>
          <a:xfrm>
            <a:off x="163440" y="4194360"/>
            <a:ext cx="4332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iensan antes que otros lo hag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1" descr=""/>
          <p:cNvPicPr/>
          <p:nvPr/>
        </p:nvPicPr>
        <p:blipFill>
          <a:blip r:embed="rId1"/>
          <a:stretch/>
        </p:blipFill>
        <p:spPr>
          <a:xfrm>
            <a:off x="4724280" y="3959280"/>
            <a:ext cx="4292640" cy="2817720"/>
          </a:xfrm>
          <a:prstGeom prst="rect">
            <a:avLst/>
          </a:prstGeom>
          <a:ln w="0">
            <a:noFill/>
          </a:ln>
        </p:spPr>
      </p:pic>
      <p:sp>
        <p:nvSpPr>
          <p:cNvPr id="159" name="Rectangle 5"/>
          <p:cNvSpPr/>
          <p:nvPr/>
        </p:nvSpPr>
        <p:spPr>
          <a:xfrm>
            <a:off x="120960" y="1440"/>
            <a:ext cx="7730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dificando el respeto en su liderazgo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 (cont.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nodeType="clickEffect" fill="hold">
                      <p:stCondLst>
                        <p:cond delay="0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0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5"/>
          <p:cNvSpPr/>
          <p:nvPr/>
        </p:nvSpPr>
        <p:spPr>
          <a:xfrm>
            <a:off x="1088280" y="1297800"/>
            <a:ext cx="3259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Discusión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7"/>
          <p:cNvSpPr/>
          <p:nvPr/>
        </p:nvSpPr>
        <p:spPr>
          <a:xfrm>
            <a:off x="1102680" y="2747520"/>
            <a:ext cx="7567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¿Qué le impide ver más allá y pens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n grande?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nodeType="clickEffect" fill="hold">
                      <p:stCondLst>
                        <p:cond delay="0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6"/>
          <p:cNvSpPr/>
          <p:nvPr/>
        </p:nvSpPr>
        <p:spPr>
          <a:xfrm>
            <a:off x="185760" y="65160"/>
            <a:ext cx="8577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aso de las siete características para edificar el respeto como líd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7"/>
          <p:cNvSpPr/>
          <p:nvPr/>
        </p:nvSpPr>
        <p:spPr>
          <a:xfrm>
            <a:off x="0" y="114624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. Respétese a sí mismo y a los que trabajan con us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8"/>
          <p:cNvSpPr/>
          <p:nvPr/>
        </p:nvSpPr>
        <p:spPr>
          <a:xfrm>
            <a:off x="0" y="205884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Exceda las expectativas de los demá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9"/>
          <p:cNvSpPr/>
          <p:nvPr/>
        </p:nvSpPr>
        <p:spPr>
          <a:xfrm>
            <a:off x="0" y="267048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 Manténgase firme en sus convicciones  y principi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10"/>
          <p:cNvSpPr/>
          <p:nvPr/>
        </p:nvSpPr>
        <p:spPr>
          <a:xfrm>
            <a:off x="0" y="3660840"/>
            <a:ext cx="8991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 Posea una madurez que sea mucho mayor que su edad y experienci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5"/>
          <p:cNvSpPr/>
          <p:nvPr/>
        </p:nvSpPr>
        <p:spPr>
          <a:xfrm>
            <a:off x="0" y="4651560"/>
            <a:ext cx="8991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 Experimente el éxito en su carrera, en su familia, y en su vida person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6"/>
          <p:cNvSpPr/>
          <p:nvPr/>
        </p:nvSpPr>
        <p:spPr>
          <a:xfrm>
            <a:off x="0" y="5726160"/>
            <a:ext cx="659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. Contribuya al éxito de otro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7"/>
          <p:cNvSpPr/>
          <p:nvPr/>
        </p:nvSpPr>
        <p:spPr>
          <a:xfrm>
            <a:off x="0" y="6326280"/>
            <a:ext cx="721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7. Piense más allá que los demá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nodeType="clickEffect" fill="hold">
                      <p:stCondLst>
                        <p:cond delay="0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4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9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nodeType="clickEffect" fill="hold">
                      <p:stCondLst>
                        <p:cond delay="indefinite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9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5"/>
          <p:cNvSpPr/>
          <p:nvPr/>
        </p:nvSpPr>
        <p:spPr>
          <a:xfrm>
            <a:off x="623520" y="946080"/>
            <a:ext cx="237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valuació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1108440" y="1608120"/>
            <a:ext cx="7553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 las siete características anteriores d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 líder respetado, ¿cuáles cree que h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aturalmente? ¿En cuáles necesi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jora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7"/>
          <p:cNvSpPr/>
          <p:nvPr/>
        </p:nvSpPr>
        <p:spPr>
          <a:xfrm>
            <a:off x="623160" y="3537000"/>
            <a:ext cx="21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plicació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8"/>
          <p:cNvSpPr/>
          <p:nvPr/>
        </p:nvSpPr>
        <p:spPr>
          <a:xfrm>
            <a:off x="1192320" y="4119840"/>
            <a:ext cx="7065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lexione y escriba un paso de ac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que puede tomar para crecer en s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fluencia person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nodeType="clickEffect" fill="hold">
                      <p:stCondLst>
                        <p:cond delay="0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1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6"/>
          <p:cNvSpPr/>
          <p:nvPr/>
        </p:nvSpPr>
        <p:spPr>
          <a:xfrm>
            <a:off x="1295280" y="617400"/>
            <a:ext cx="6553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LAS RESPUESTAS ESTÁN EN EL FIN DEL LIBR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6"/>
          <p:cNvSpPr/>
          <p:nvPr/>
        </p:nvSpPr>
        <p:spPr>
          <a:xfrm>
            <a:off x="344520" y="3213000"/>
            <a:ext cx="8454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PREGUNTAS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O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COMENTARIO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Graphical user interface&#10;&#10;Description automatically generated with low confidence"/>
          <p:cNvPicPr/>
          <p:nvPr/>
        </p:nvPicPr>
        <p:blipFill>
          <a:blip r:embed="rId1"/>
          <a:stretch/>
        </p:blipFill>
        <p:spPr>
          <a:xfrm>
            <a:off x="2101680" y="380880"/>
            <a:ext cx="429912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6 Imagen" descr="Fondo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5"/>
          <p:cNvSpPr/>
          <p:nvPr/>
        </p:nvSpPr>
        <p:spPr>
          <a:xfrm>
            <a:off x="876240" y="1075680"/>
            <a:ext cx="773424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Arial"/>
              </a:rPr>
              <a:t>Cómo ganarse a la gente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6"/>
          <p:cNvSpPr/>
          <p:nvPr/>
        </p:nvSpPr>
        <p:spPr>
          <a:xfrm>
            <a:off x="1842480" y="3355200"/>
            <a:ext cx="5831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Volume 2, Manual 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8 Imagen" descr="Fondo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6"/>
          <p:cNvSpPr/>
          <p:nvPr/>
        </p:nvSpPr>
        <p:spPr>
          <a:xfrm>
            <a:off x="750960" y="1534320"/>
            <a:ext cx="83930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Lección 1: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El derecho de tener seguidor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5"/>
          <p:cNvSpPr/>
          <p:nvPr/>
        </p:nvSpPr>
        <p:spPr>
          <a:xfrm>
            <a:off x="228600" y="155880"/>
            <a:ext cx="8772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os maneras frecuentes en las que los líd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dquieren influencia con la gen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6"/>
          <p:cNvSpPr/>
          <p:nvPr/>
        </p:nvSpPr>
        <p:spPr>
          <a:xfrm>
            <a:off x="228600" y="1558080"/>
            <a:ext cx="6553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der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ICIONAL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– Se manifiesta cuando los líderes usan su título y posición para conseguir que los demás lo sig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7"/>
          <p:cNvSpPr/>
          <p:nvPr/>
        </p:nvSpPr>
        <p:spPr>
          <a:xfrm>
            <a:off x="3662280" y="3885120"/>
            <a:ext cx="55580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514440" indent="-51444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der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ERSONAL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– Se manifiesta cuando los líderes ejercitan sanamente sus capacidades relacionales para ganarse el derecho de lider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7" descr="ttp://www.illustrationsof.com/royalty-free-authority-clipart-illustration-47628.jpg"/>
          <p:cNvPicPr/>
          <p:nvPr/>
        </p:nvPicPr>
        <p:blipFill>
          <a:blip r:embed="rId1"/>
          <a:stretch/>
        </p:blipFill>
        <p:spPr>
          <a:xfrm>
            <a:off x="6734160" y="914400"/>
            <a:ext cx="2266920" cy="26668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9" descr="ttp://radhanathswamionline.com/wp-content/uploads/2012/04/Ideal-Leader.jpg"/>
          <p:cNvPicPr/>
          <p:nvPr/>
        </p:nvPicPr>
        <p:blipFill>
          <a:blip r:embed="rId2"/>
          <a:stretch/>
        </p:blipFill>
        <p:spPr>
          <a:xfrm>
            <a:off x="195120" y="4038480"/>
            <a:ext cx="338616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5"/>
          <p:cNvSpPr/>
          <p:nvPr/>
        </p:nvSpPr>
        <p:spPr>
          <a:xfrm>
            <a:off x="480240" y="1153440"/>
            <a:ext cx="3461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Discusión: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"/>
          <p:cNvSpPr/>
          <p:nvPr/>
        </p:nvSpPr>
        <p:spPr>
          <a:xfrm>
            <a:off x="533520" y="2273400"/>
            <a:ext cx="8001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571680" indent="-571680">
              <a:buClr>
                <a:srgbClr val="ffffff"/>
              </a:buClr>
              <a:buFont typeface="Arial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¿Puede pensar en un ejemplo de cómo la gente de influencia motiva y moviliza a los demás sin usar un título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0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5"/>
          <p:cNvSpPr/>
          <p:nvPr/>
        </p:nvSpPr>
        <p:spPr>
          <a:xfrm>
            <a:off x="771480" y="306000"/>
            <a:ext cx="715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bteniendo el respeto de los demá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"/>
          <p:cNvSpPr/>
          <p:nvPr/>
        </p:nvSpPr>
        <p:spPr>
          <a:xfrm>
            <a:off x="152280" y="1147320"/>
            <a:ext cx="7485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as preguntas silenciosas que cada seguidor le hace a su líder s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7"/>
          <p:cNvSpPr/>
          <p:nvPr/>
        </p:nvSpPr>
        <p:spPr>
          <a:xfrm>
            <a:off x="538200" y="2973600"/>
            <a:ext cx="515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. ¿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CONFÍO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en usted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8"/>
          <p:cNvSpPr/>
          <p:nvPr/>
        </p:nvSpPr>
        <p:spPr>
          <a:xfrm>
            <a:off x="4572720" y="5716440"/>
            <a:ext cx="37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. ¿Lo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RESPETO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1" descr=""/>
          <p:cNvPicPr/>
          <p:nvPr/>
        </p:nvPicPr>
        <p:blipFill>
          <a:blip r:embed="rId1"/>
          <a:stretch/>
        </p:blipFill>
        <p:spPr>
          <a:xfrm>
            <a:off x="5943600" y="2293920"/>
            <a:ext cx="2438280" cy="29196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8" descr="https://encrypted-tbn2.gstatic.com/images?q=tbn:ANd9GcTEkDdjym9_FubAYIxfatTX8A8dhvwHU_-uzbUcC5jRXxUopn8U"/>
          <p:cNvPicPr/>
          <p:nvPr/>
        </p:nvPicPr>
        <p:blipFill>
          <a:blip r:embed="rId2"/>
          <a:srcRect l="0" t="-837" r="0" b="0"/>
          <a:stretch/>
        </p:blipFill>
        <p:spPr>
          <a:xfrm>
            <a:off x="736560" y="4267080"/>
            <a:ext cx="3530520" cy="232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20T00:54:43Z</dcterms:created>
  <dc:creator>montecyr@yahoo.com</dc:creator>
  <dc:description/>
  <dc:language>en-US</dc:language>
  <cp:lastModifiedBy>Monte Cyr</cp:lastModifiedBy>
  <dcterms:modified xsi:type="dcterms:W3CDTF">2021-02-20T04:02:06Z</dcterms:modified>
  <cp:revision>13</cp:revision>
  <dc:subject/>
  <dc:title>PowerPoint Presentation</dc:title>
</cp:coreProperties>
</file>