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B78C9-CBD5-438D-A767-51484C56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04373-326A-4630-92EC-4755D138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56C9-84B4-4885-B80F-60522FF8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AEDDA-F99D-48C3-A801-79F4D173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A7F0-7A42-4463-9980-8739D0A8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76B5-1D60-4441-ADF1-6C657381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2813-AD38-497A-839F-F7EB6A51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0604-E179-4047-9644-8336FFDA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8916-1243-4974-9A09-8DA218C7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81CE-91F7-4A83-AA02-F5918662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8C25-6760-4557-96C6-B8432045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F562A-E373-402E-93B9-290DACDA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9855-E35C-4368-9762-04DF9198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452D-CEE9-455B-A23B-8CFAB620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6624-235A-41D3-B713-F015DF7D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7A70-3DDC-4026-90C0-B072DB15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C9C0-1DF5-4EAE-8455-48400647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A6987-EC3A-4E76-9B46-0EEC5631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9B8AB-BF2C-4C28-ABE8-FE5A6DFC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D5710-B2EE-4007-A9E0-FADC1A39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01B3A-C182-4E51-9325-469EC6BF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FB4A7-7EA7-49A0-B073-4C1E5CAE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958C2-1D19-4B8E-A687-A4BC2D5D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BFCA7-DD6D-4053-A08E-00737FE3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CE6A-41A8-47FA-8A41-94C876A65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9761-54DB-47B9-B482-F8206EA184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971800"/>
            <a:ext cx="91440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The Power of Partnership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ving from Isolation to Cooperation in Your Ministry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52280" y="4237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become secure in their call and their role in marketplace leaders’ l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itiate relationship and partnership with marketplace lea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create places for marketplace leaders to use their gif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allow marketplace leaders to own the ministry by making deci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know and communicate their principles (core values) and vis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challenge marketplace leaders to God’s call on their lives as wel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equip marketplace leaders to become spiritual leaders in their own aren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br>
              <a:rPr sz="24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067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77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he Law of Significance – One is too small a number to achieve something great. 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(John Maxwell)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onathan and David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1 Samuel 18 - 20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VAIL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have any ministry partner for whom I am completely availa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PEND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Am I dependable within the partnerships and relationships I am involv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VULNER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How vulnerable am I willing to become for someone el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ESPONSI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act responsibly and in the best interests of others in my leadership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are built 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US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openness and mutual conce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need a facilitator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ORDINAT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develop in order to accomplish a specific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AS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levant partnerships begin by identify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EED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mong the people to be ser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tnerships are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CES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not 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reat partnerships are even more challenging to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AINTAI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an to st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uitful partnerships are made up of ministries who each have a cle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DENT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ELEBRA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 differences between the minist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sta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OCUS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n the ultimate goals, not immediate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mart partnerships expec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BLEM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plan ahead for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speak into Saul’s life because he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U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is call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FFIR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aul’s complementary role and honor him for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took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ITIA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anointed Saul for the ministry role he was to fulfi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instrumental in Saul receiving a new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A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erve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KE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elping Saul use his spiritual gif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Every Ministry Leader Can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r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5410080"/>
            <a:ext cx="883908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not intimidated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VIOU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f Saul’s conque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speak words of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AY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U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Saul when he fail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confront Saul when he sinned and provide hi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PEC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possess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REDIBIL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call for repentance from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inistry Leader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MUE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U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inistry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ECURIT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arketplace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UBMI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Ministry Leader often envies the layman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CCES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 often envies the Ministry Leader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IFICANC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br>
              <a:rPr sz="2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ig enough to attract successful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OUS SPIRI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nable pastors to fulfill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clude laymen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 they can own the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include pastors in both their finances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LEND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giv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HURCH’S MINIST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give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 GIF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the church’s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IMIDA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DEPEND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can offer one thing that laymen want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ULFILL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can offer one thing that Ministry Leaders need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OURC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1T00:06:01Z</dcterms:modified>
  <cp:revision>69</cp:revision>
  <dc:subject/>
  <dc:title>Million Leaders Mandate</dc:title>
</cp:coreProperties>
</file>