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F735B-BDAC-4BC1-8A25-D65D9366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5B4CC-399E-4D2A-A0A2-F8C0BA92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DC2A1-6B7C-4CDC-B320-B0649818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25CD-2DEC-4F24-8405-636443D4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82A9-7975-48DD-9A03-81497B4D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D7B3-DAD8-4214-804E-3D7E6F60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B3F5-4247-4901-A7EA-019A3211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E6A4-3F8E-4F99-960B-9338A4DA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59E3-30AE-4873-9E3B-B90CC440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9CAF-7EC3-43D8-8F94-746435C2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5BB0-ECA9-4144-B7A4-0C52F177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9831E-B4BF-4FCC-BBB6-E0010327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DEBB-F6F1-447D-BE5B-B0854239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0810-687A-4322-B3A7-11EB89AF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EB5C-691C-41FC-B989-63FD75C6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90B6-1C25-4C63-88FA-16254532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BD31-1019-4FB0-A0AC-E0248C63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2B2C8-5949-46C3-A571-54AA7470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EEB98-053C-48C8-A3BD-350037F3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FD2A7-D534-4F11-8A75-C9E913CC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C9568-693A-464D-8128-F77EB1D8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EE76F-DD83-4279-ACF8-C87B011B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A0088-7EF4-4812-94C7-C15648BE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4F011-4A1F-4E84-A385-CA43D634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B933-100B-49D7-AB6D-DA20CB1E0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841F-79EF-400C-AE98-8F2FDDF08B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nnecting with These Personality Types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anguin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ive the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TTEN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OV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Melancholy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cognize their emotional need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NSITIV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holer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cate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ECIATE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R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Phlegmat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ar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lead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 and 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follow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 and 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cause the most problem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 and 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yal,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76320" y="-152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839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naturally gif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ved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nfluences most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some have a mix of personality typ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es. Most people do have a mix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76320" y="-7668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96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Know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W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ersonalit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cognize the personality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INISTR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earn the different personalities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ill team positions b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lace the team members closest to you according to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EAKNESS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MOTIVATE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your team members according to their personality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Be careful not to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LABEL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peop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Teach you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bout the different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Form ministry teams with complementary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STRENGTHS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nd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Lead others from thei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sty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320" y="538200"/>
          <a:ext cx="9067680" cy="593712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9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82"/>
          <p:cNvSpPr/>
          <p:nvPr/>
        </p:nvSpPr>
        <p:spPr>
          <a:xfrm>
            <a:off x="76320" y="12193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19051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mo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84"/>
          <p:cNvSpPr/>
          <p:nvPr/>
        </p:nvSpPr>
        <p:spPr>
          <a:xfrm>
            <a:off x="37339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see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85"/>
          <p:cNvSpPr/>
          <p:nvPr/>
        </p:nvSpPr>
        <p:spPr>
          <a:xfrm>
            <a:off x="5562720" y="12193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operative grou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87"/>
          <p:cNvSpPr/>
          <p:nvPr/>
        </p:nvSpPr>
        <p:spPr>
          <a:xfrm>
            <a:off x="7391520" y="121932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erved perfectioni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8"/>
          <p:cNvSpPr/>
          <p:nvPr/>
        </p:nvSpPr>
        <p:spPr>
          <a:xfrm>
            <a:off x="76320" y="39625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der Press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89"/>
          <p:cNvSpPr/>
          <p:nvPr/>
        </p:nvSpPr>
        <p:spPr>
          <a:xfrm>
            <a:off x="19810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ss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ati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90"/>
          <p:cNvSpPr/>
          <p:nvPr/>
        </p:nvSpPr>
        <p:spPr>
          <a:xfrm>
            <a:off x="38098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otion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timisti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91"/>
          <p:cNvSpPr/>
          <p:nvPr/>
        </p:nvSpPr>
        <p:spPr>
          <a:xfrm>
            <a:off x="5562720" y="3886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s d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l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92"/>
          <p:cNvSpPr/>
          <p:nvPr/>
        </p:nvSpPr>
        <p:spPr>
          <a:xfrm>
            <a:off x="7391520" y="38862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ly critic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i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93"/>
          <p:cNvSpPr/>
          <p:nvPr/>
        </p:nvSpPr>
        <p:spPr>
          <a:xfrm>
            <a:off x="228600" y="30830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Sty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94"/>
          <p:cNvSpPr/>
          <p:nvPr/>
        </p:nvSpPr>
        <p:spPr>
          <a:xfrm>
            <a:off x="2082960" y="31082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re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95"/>
          <p:cNvSpPr/>
          <p:nvPr/>
        </p:nvSpPr>
        <p:spPr>
          <a:xfrm>
            <a:off x="3848040" y="3121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a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96"/>
          <p:cNvSpPr/>
          <p:nvPr/>
        </p:nvSpPr>
        <p:spPr>
          <a:xfrm>
            <a:off x="5715000" y="3121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biliz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97"/>
          <p:cNvSpPr/>
          <p:nvPr/>
        </p:nvSpPr>
        <p:spPr>
          <a:xfrm>
            <a:off x="7404120" y="3124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utio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98"/>
          <p:cNvSpPr/>
          <p:nvPr/>
        </p:nvSpPr>
        <p:spPr>
          <a:xfrm>
            <a:off x="76320" y="2171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rk Tra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99"/>
          <p:cNvSpPr/>
          <p:nvPr/>
        </p:nvSpPr>
        <p:spPr>
          <a:xfrm>
            <a:off x="1905120" y="20178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oal oriented Acts quick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100"/>
          <p:cNvSpPr/>
          <p:nvPr/>
        </p:nvSpPr>
        <p:spPr>
          <a:xfrm>
            <a:off x="369576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ergetic; inspi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01"/>
          <p:cNvSpPr/>
          <p:nvPr/>
        </p:nvSpPr>
        <p:spPr>
          <a:xfrm>
            <a:off x="5486400" y="200196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am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ady wor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02"/>
          <p:cNvSpPr/>
          <p:nvPr/>
        </p:nvSpPr>
        <p:spPr>
          <a:xfrm>
            <a:off x="731520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mbers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lans, organiz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42"/>
          <p:cNvSpPr/>
          <p:nvPr/>
        </p:nvSpPr>
        <p:spPr>
          <a:xfrm>
            <a:off x="1522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flict Respon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1981080" y="4724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ack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3733920" y="4724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ies to sell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n backs of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56386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nds to autho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46"/>
          <p:cNvSpPr/>
          <p:nvPr/>
        </p:nvSpPr>
        <p:spPr>
          <a:xfrm>
            <a:off x="7315200" y="47242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draws to prep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57"/>
          <p:cNvSpPr/>
          <p:nvPr/>
        </p:nvSpPr>
        <p:spPr>
          <a:xfrm>
            <a:off x="152280" y="56386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vorite Biblical Wor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58"/>
          <p:cNvSpPr/>
          <p:nvPr/>
        </p:nvSpPr>
        <p:spPr>
          <a:xfrm>
            <a:off x="1905120" y="5670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uitfu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59"/>
          <p:cNvSpPr/>
          <p:nvPr/>
        </p:nvSpPr>
        <p:spPr>
          <a:xfrm>
            <a:off x="38098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o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0"/>
          <p:cNvSpPr/>
          <p:nvPr/>
        </p:nvSpPr>
        <p:spPr>
          <a:xfrm>
            <a:off x="56386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61"/>
          <p:cNvSpPr/>
          <p:nvPr/>
        </p:nvSpPr>
        <p:spPr>
          <a:xfrm>
            <a:off x="74674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ut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009800"/>
          <a:ext cx="9067680" cy="502416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5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6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42"/>
          <p:cNvSpPr/>
          <p:nvPr/>
        </p:nvSpPr>
        <p:spPr>
          <a:xfrm>
            <a:off x="114480" y="2492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3"/>
          <p:cNvSpPr/>
          <p:nvPr/>
        </p:nvSpPr>
        <p:spPr>
          <a:xfrm>
            <a:off x="1905120" y="2432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nerates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4"/>
          <p:cNvSpPr/>
          <p:nvPr/>
        </p:nvSpPr>
        <p:spPr>
          <a:xfrm>
            <a:off x="3809880" y="243216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lks about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45"/>
          <p:cNvSpPr/>
          <p:nvPr/>
        </p:nvSpPr>
        <p:spPr>
          <a:xfrm>
            <a:off x="5638680" y="2416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es the wo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46"/>
          <p:cNvSpPr/>
          <p:nvPr/>
        </p:nvSpPr>
        <p:spPr>
          <a:xfrm>
            <a:off x="7391520" y="249228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ke sure work is done righ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76320" y="4572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Fea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1905120" y="457200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ing taken advantage o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54"/>
          <p:cNvSpPr/>
          <p:nvPr/>
        </p:nvSpPr>
        <p:spPr>
          <a:xfrm>
            <a:off x="3733920" y="45720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cial disapprov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55"/>
          <p:cNvSpPr/>
          <p:nvPr/>
        </p:nvSpPr>
        <p:spPr>
          <a:xfrm>
            <a:off x="5486400" y="45720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ss of secu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7391520" y="45878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erfection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sorganiz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57"/>
          <p:cNvSpPr/>
          <p:nvPr/>
        </p:nvSpPr>
        <p:spPr>
          <a:xfrm>
            <a:off x="76320" y="355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58"/>
          <p:cNvSpPr/>
          <p:nvPr/>
        </p:nvSpPr>
        <p:spPr>
          <a:xfrm>
            <a:off x="1981080" y="3559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es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59"/>
          <p:cNvSpPr/>
          <p:nvPr/>
        </p:nvSpPr>
        <p:spPr>
          <a:xfrm>
            <a:off x="3733920" y="35593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kes to change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60"/>
          <p:cNvSpPr/>
          <p:nvPr/>
        </p:nvSpPr>
        <p:spPr>
          <a:xfrm>
            <a:off x="5562720" y="3559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 to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7391520" y="3559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ust justif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152280" y="16002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Resi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1905120" y="161604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criticis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3733920" y="16002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reje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55627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dden, vague chan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73915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iticism of work and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3"/>
          <p:cNvSpPr/>
          <p:nvPr/>
        </p:nvSpPr>
        <p:spPr>
          <a:xfrm>
            <a:off x="0" y="347760"/>
            <a:ext cx="906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52280" y="2830680"/>
            <a:ext cx="89154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ading Different Personaliti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to Connect with the People Who Follow You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Lesson 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he Foundation for This Less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ople should b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IFFERENT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re is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VALU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in their differenc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0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ir personalities won’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HANG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27432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When the leader fails to understand and relate to the different personalities within the organization, problems result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9718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Good Leaders recognize the influence, the personalities, and the spiritual gifts of their people. They READ people, and then they LEAD people.</a:t>
            </a:r>
            <a:br>
              <a:rPr sz="4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 and How to Spot Th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pul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ANGU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everything to be fun and are energized by peopl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is a bit messy with clutter and collection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often crave people, activity and conversat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self-centere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Look at Me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br>
              <a:rPr sz="38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300" spc="-1" strike="noStrike">
                <a:solidFill>
                  <a:srgbClr val="ffffff"/>
                </a:solidFill>
                <a:latin typeface="Garamond"/>
              </a:rPr>
              <a:t>perfect</a:t>
            </a: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Garamond"/>
              </a:rPr>
              <a:t>MELANCHOLY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think anything worth doing is worth doing right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work space is tidy – everything is in its place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are detailed and are energized by thinking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often are a bit moody.They can be artistic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motto is, “Please understand me.”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899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werful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HOLERI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to be in charge and are strong and are energized by setting goals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reflects more function than for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results and want it done their wa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demanding and impati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Do it my way, now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76320" y="990360"/>
            <a:ext cx="922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eacefu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are easy going, peaceful, happy and relax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work space is informal and sim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would rather not be involved if it causes confli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may miss deadlines and fail to reach goals because they are in no hur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motto is, “What difference will it make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05:09Z</dcterms:modified>
  <cp:revision>80</cp:revision>
  <dc:subject/>
  <dc:title>Million Leaders Mandate</dc:title>
</cp:coreProperties>
</file>