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85ED6-75EF-4347-92E0-EA1C63640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1265E-0980-4104-BB61-DA051F31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D76FA-29D9-4FF8-AE96-6B4D50726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2C60A-1B98-428F-8739-1B06B9E27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F9E20-4648-489F-A76E-5E9D81A04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2EF5A-863C-46D0-B5F4-18EB17D7A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E40F4-1B0D-417B-9AD4-3CACBE2AB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34FA5-5283-4A5C-AE70-C6B0173A9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CDD1D-C505-4AAD-8A73-A36C363FE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CE186-0C84-4B6D-AE5E-A92355D24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7B26D-4609-423E-A28D-B1B46BE6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5B58A-2866-4B28-A46B-F96F570E0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68024-3ECE-489D-8A9B-8661EB66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10844-7DA8-47D9-8950-D72B52BE9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8C451-3EAA-4278-8C24-C67A05118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B26E8-8720-48B3-B766-4F9E09B57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FAF15-661A-45EE-A9F2-FE18975A6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8F930-40A1-484F-A0B0-9496B44C8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A330D-8EDD-4AAC-B633-6271CF06B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4A652-E81D-4646-994E-1B5526794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6F09D-61CE-4043-89AB-782B1FDCF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363F3-A9D2-4FB0-88A5-A364FF1D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44ACE-96F6-4CF8-94A2-4D9AF4EF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2ECA5-76DA-4FF8-931E-CFE17586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FDFA8-8D35-43F8-8B8D-43A7870CD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34521-073F-447D-A3A4-78E35418D5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0"/>
          <p:cNvSpPr/>
          <p:nvPr/>
        </p:nvSpPr>
        <p:spPr>
          <a:xfrm>
            <a:off x="0" y="2362320"/>
            <a:ext cx="91440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c7d6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Principles for Getting the Job Done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lping Yourself and Your Organization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ach Its Potenti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(Lesson 4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24"/>
          <p:cNvSpPr/>
          <p:nvPr/>
        </p:nvSpPr>
        <p:spPr>
          <a:xfrm>
            <a:off x="152280" y="487440"/>
            <a:ext cx="883944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Garamond"/>
              </a:rPr>
              <a:t>Million Leaders Mandate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tebook 5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-305280"/>
            <a:ext cx="90676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ys to Excellence in Your Organization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469080" indent="-469080">
              <a:lnSpc>
                <a:spcPct val="90000"/>
              </a:lnSpc>
              <a:spcBef>
                <a:spcPts val="726"/>
              </a:spcBef>
              <a:buClr>
                <a:srgbClr val="ffff00"/>
              </a:buClr>
              <a:buSzPct val="70000"/>
              <a:buFont typeface="Garamond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Always give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110%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a. The Cop Outs 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b. The Hold Outs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c. The Drop Outs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d. The All Outs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26"/>
              </a:spcBef>
              <a:spcAft>
                <a:spcPts val="300"/>
              </a:spcAft>
              <a:buClr>
                <a:srgbClr val="ffff00"/>
              </a:buClr>
              <a:buSzPct val="70000"/>
              <a:buFont typeface="Garamond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Don’t just fix things up temporarily, but make things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RIGHT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26"/>
              </a:spcBef>
              <a:spcAft>
                <a:spcPts val="300"/>
              </a:spcAft>
              <a:buClr>
                <a:srgbClr val="ffff00"/>
              </a:buClr>
              <a:buSzPct val="70000"/>
              <a:buFont typeface="Garamond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Devote yourself to what you do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BEST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26"/>
              </a:spcBef>
              <a:spcAft>
                <a:spcPts val="300"/>
              </a:spcAft>
              <a:buClr>
                <a:srgbClr val="ffff00"/>
              </a:buClr>
              <a:buSzPct val="70000"/>
              <a:buFont typeface="Garamond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Accept the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PRESSURE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 of the moment or the position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26"/>
              </a:spcBef>
              <a:spcAft>
                <a:spcPts val="300"/>
              </a:spcAft>
              <a:buClr>
                <a:srgbClr val="ffff00"/>
              </a:buClr>
              <a:buSzPct val="70000"/>
              <a:buFont typeface="Garamond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Be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CONSISTENT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 in your lifestyle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26"/>
              </a:spcBef>
              <a:spcAft>
                <a:spcPts val="300"/>
              </a:spcAft>
              <a:buClr>
                <a:srgbClr val="ffff00"/>
              </a:buClr>
              <a:buSzPct val="70000"/>
              <a:buFont typeface="Garamond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Work as unto the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LORD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0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7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2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7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2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7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2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7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2" dur="5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7" dur="5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QUESTIONS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OR COMMENTS?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inciples and Practices for Getting the Job Don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320" y="1523880"/>
            <a:ext cx="89913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Gets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TALKED ABOUT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Gets Do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ow to Help People Remember What We Sa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lationship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peti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levanc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spons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-7632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inciples and Practices for Getting the Job Don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9372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Gets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TRAINED FOR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Gets Do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asons Why People Fail to Perform Effectively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 algn="ct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lvl="1" marL="1085760" indent="-43416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don’t know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WHAT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they are supposed to d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085760" indent="-43416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don’t know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HOW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to do it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085760" indent="-43416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don’t know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WHY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they should do it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085760" indent="-43416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re are obstacles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BEYOND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their contro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-22860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ips For Training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761760"/>
            <a:ext cx="8839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Select well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Relate well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Give them the tools they need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Show them how to use the tools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Let them know your expectations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Watch them and give them specific feedback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Stay with them until they experience success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Check on them systematically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Affirm and encourage them continually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Together select someone for the trainee to train</a:t>
            </a:r>
            <a:r>
              <a:rPr b="1" lang="en-US" sz="30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-76680"/>
            <a:ext cx="8915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inciples and Practices for Getting the Job Don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2203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456840" indent="-45684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Get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EASUR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Gets Do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6840" indent="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ur Goals Should B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PECIFIC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EASUR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CHIEV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LEVA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RANSFER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BIBLIC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6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-7668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inciples and Practices for Getting the Job Don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320" y="990720"/>
            <a:ext cx="90676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Get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NFRONT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Gets Do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 Checklist for Confrontati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confront as soon as possibl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separate the person from the wrong actio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confront only what the person can chang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give the benefit of the doubt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-360" y="0"/>
            <a:ext cx="92962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Checklist for Confrontation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41580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e.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as I specific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f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id I avoid sarcasm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avoid words like “always” and “never?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tell them how I felt about what they did wrong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offer a plan to remedy the problem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affirm them as a person and a friend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-228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inciples and Practices for Getting the Job Don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408240" indent="-4082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Get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WARD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Gets Do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08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ointers on Praising Peop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e genui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ook for opportuniti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y it firs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o it privatel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o it publicly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e specific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member to back up your words with action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 startAt="8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ut it in writ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Keys to Excellence in Your Organization</a:t>
            </a:r>
            <a:endParaRPr b="1" lang="en-US" sz="31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Valu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XCELLENC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on’t settle f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VERAG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y attention t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TAIL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evelop a deep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MITMEN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excellen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osses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TEGRIT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how Genuin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SPEC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for othe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Go 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CON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mi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Never stop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MPROVING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5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0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5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0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5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0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5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8T14:47:07Z</dcterms:created>
  <dc:creator>Todd</dc:creator>
  <dc:description/>
  <dc:language>en-US</dc:language>
  <cp:lastModifiedBy>Monte Cyr</cp:lastModifiedBy>
  <dcterms:modified xsi:type="dcterms:W3CDTF">2017-08-10T20:57:01Z</dcterms:modified>
  <cp:revision>58</cp:revision>
  <dc:subject/>
  <dc:title>Million Leaders Mandate</dc:title>
</cp:coreProperties>
</file>