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A5985-44B1-4F1B-BD79-DDADC400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5D1D6-C1DE-4598-AC24-F7CDB958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28847-209F-42B2-B304-A3C63A8C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8E5E0-CC40-4A85-ACF6-E8EF585C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AB4B-AE66-43ED-99EB-4D77918B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5177-02C3-43C3-A6BB-B7201C53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B9B5-6DF1-4DA7-A4E5-5857E830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04E0-035E-4874-85E4-4CBD63BD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7279-3945-430E-8699-9D84B4A6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0ABE-FB95-4ED5-8543-B8DA4E5C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1387-8EB8-45FD-8806-3D505178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5D16E-E3AB-4F35-BE81-431875CD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4289-D5EE-4BA4-B90A-71DE515D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0762-3E54-4535-BC3C-E1FEE3CE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F130-564B-4F86-91BB-64AA48F4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AA26-1C6B-493F-8C78-8A367586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B35D-CC6A-4D53-8279-C88506ED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96DA3-286F-41C9-ADF5-13AAFF38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11EBF-DED5-4E05-8630-A32151EC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32D15-F2A3-4284-8703-63D4C6FA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1115E-5F52-413C-A863-7D9DC287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120FA-4453-44BF-A81F-90DB6079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A4847-8FE2-4608-8515-CCF4E6BA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665E5-A20C-4817-9FD1-AB9CEDBB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16DE-1DCE-4B90-938E-7029AC889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E882-9B30-4E3B-91F8-2468CA488F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971800"/>
            <a:ext cx="91440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The Power of Partnership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ving from Isolation to Cooperation in Your Ministry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152280" y="42372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become secure in their call and their role in marketplace leaders’ l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itiate relationship and partnership with marketplace lead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create places for marketplace leaders to use their gif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allow marketplace leaders to own the ministry by making deci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know and communicate their principles (core values) and vis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challenge marketplace leaders to God’s call on their lives as wel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equip marketplace leaders to become spiritual leaders in their own aren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br>
              <a:rPr sz="24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067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77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The Law of Significance – One is too small a number to achieve something great. 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(John Maxwell)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onathan and David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1 Samuel 18 - 20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VAIL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have any ministry partner for whom I am completely availa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PEND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Am I dependable within the partnerships and relationships I am involv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VULNER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How vulnerable am I willing to become for someone el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ESPONSI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act responsibly and in the best interests of others in my leadership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are built 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US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openness and mutual conce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need a facilitator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ORDINAT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develop in order to accomplish a specific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AS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levant partnerships begin by identify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EED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mong the people to be ser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tnerships are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CES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not a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15228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reat partnerships are even more challenging to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AINTAI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an to st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uitful partnerships are made up of ministries who each have a cle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DENT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ELEBRA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 differences between the minist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sta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OCUS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n the ultimate goals, not immediate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mart partnerships expec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BLEM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plan ahead for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speak into Saul’s life because he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U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is call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FFIR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aul’s complementary role and honor him for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took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ITIA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anointed Saul for the ministry role he was to fulfi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instrumental in Saul receiving a new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A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erve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KE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elping Saul use his spiritual gif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Every Ministry Leader Can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r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5410080"/>
            <a:ext cx="883908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not intimidated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VIOU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f Saul’s conques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speak words of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REC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AY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U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Saul when he fail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confront Saul when he sinned and provide hi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PEC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possess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REDIBIL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call for repentance from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inistry Leader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MUE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U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inistry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ECURIT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arketplace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UBMI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Ministry Leader often envies the layman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CCES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 often envies the Ministry Leader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GNIFICANC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br>
              <a:rPr sz="2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ig enough to attract successful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OUS SPIRI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nable pastors to fulfill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clude laymen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 they can own the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include pastors in both their finances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LEND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giv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HURCH’S MINIST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give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 GIF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the church’s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IMIDA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DEPEND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can offer one thing that laymen want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ULFILL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can offer one thing that Ministry Leaders need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OURCE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1T00:06:01Z</dcterms:modified>
  <cp:revision>69</cp:revision>
  <dc:subject/>
  <dc:title>Million Leaders Mandate</dc:title>
</cp:coreProperties>
</file>