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9CA2B-D0F9-44E7-8791-BFC620E4B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90290-EEC9-4D7E-A6FA-A3905C066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9C14B-D37A-46C8-AF5F-DC87BF4EA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A1640-BB4B-412F-B7A5-9206C7157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82BC4-B908-4A1A-B7E7-D84B99505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60213-797A-4524-B9E3-1D8EF0BC5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BE9A6-01F2-46B6-B300-C1D6B72F5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4BDD7-4CA0-4A93-80F0-BC7F092F1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FDADB-606A-4A15-8EE4-725FB87B0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42177-3798-42DD-9CB2-53E886B13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4EFD1-C176-4AD6-9656-91A7DD67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FC065-8324-4069-9077-25EABFB73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F93D6-E671-4593-A1A1-D7FD96A7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FBB72-2208-4FF7-ADFE-93FB7786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9ED09-96C0-40DC-976A-71E3EB22C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49DD8-DF9D-4A71-BF52-E9D8EB479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EE29D-1E9C-4C74-B9FF-F9AD5BAFF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F073C-40A2-448C-B08D-926C2ABC4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419A3-9E31-4B0C-B2AC-DE020563A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193EE-756D-411A-9EA5-11FBB1111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4CD94-40E1-482A-A1F3-ADA27FB2C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AF5F2-03BB-4CEB-87A8-2E2682B3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D57B0-BBCF-43DA-9CF8-CA4F8358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E6118-ADA9-4C06-B283-9A8220CA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9BE87-679F-4A44-AB05-AD71D1125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F46E8-9E64-427E-9C34-E7C36179CA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1920" y="-22860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Connecting with These Personality Types</a:t>
            </a:r>
            <a:endParaRPr b="1" lang="en-US" sz="3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Sanguine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Give them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TTENTIO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PPROVAL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Melancholy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cognize their emotional need fo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NSITIVIT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Choleric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municate you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PPRECIATE THEM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thei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WORK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Phlegmatic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earn t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SPEC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he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52280" y="83808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469080" indent="-46908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s are the most natural leader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628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holeric and Melancho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628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s are the most natural follower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628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hlegmatic and Sangu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628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s cause the most problems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elancholy and Choler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 is the most loyal, naturally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hlegmat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628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76320" y="-15264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Questions and Answers about Personality Types</a:t>
            </a: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4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7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2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7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2" dur="5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7" dur="5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28240" y="914400"/>
            <a:ext cx="88390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426600" indent="-42660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 is the most naturally gifted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elancho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-42660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 is the most loved naturally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ngu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-4266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 influences most naturally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holer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-4266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o some have a mix of personality type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Yes. Most people do have a mix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76320" y="-7668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Questions and Answers about Personality Types</a:t>
            </a: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4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9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4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9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4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9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4" dur="5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9" dur="500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960" y="-22860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How to Effectively Lead Different Personalities</a:t>
            </a:r>
            <a:endParaRPr b="1" lang="en-US" sz="3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469080" indent="-469080">
              <a:lnSpc>
                <a:spcPct val="80000"/>
              </a:lnSpc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Know you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W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ersonality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lnSpc>
                <a:spcPct val="80000"/>
              </a:lnSpc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cognize the personality of you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MINISTRY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lnSpc>
                <a:spcPct val="80000"/>
              </a:lnSpc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earn the different personalities of you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TEAM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lnSpc>
                <a:spcPct val="80000"/>
              </a:lnSpc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Fill team positions by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ERSONALITY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lnSpc>
                <a:spcPct val="80000"/>
              </a:lnSpc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lace the team members closest to you according to you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WEAKNESSE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0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-152280"/>
            <a:ext cx="8991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How to Effectively Lead Different Personalities</a:t>
            </a:r>
            <a:endParaRPr b="1" lang="en-US" sz="3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80000"/>
              </a:lnSpc>
              <a:spcBef>
                <a:spcPts val="85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ffffff"/>
                </a:solidFill>
                <a:uFillTx/>
                <a:latin typeface="Garamond"/>
              </a:rPr>
              <a:t>MOTIVATE</a:t>
            </a: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 your team members according to their personality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lnSpc>
                <a:spcPct val="80000"/>
              </a:lnSpc>
              <a:spcBef>
                <a:spcPts val="85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Be careful not to </a:t>
            </a:r>
            <a:r>
              <a:rPr b="1" lang="en-US" sz="3400" spc="-1" strike="noStrike" u="sng">
                <a:solidFill>
                  <a:srgbClr val="ffffff"/>
                </a:solidFill>
                <a:uFillTx/>
                <a:latin typeface="Garamond"/>
              </a:rPr>
              <a:t>LABEL</a:t>
            </a: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 people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lnSpc>
                <a:spcPct val="90000"/>
              </a:lnSpc>
              <a:spcBef>
                <a:spcPts val="85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Teach your </a:t>
            </a:r>
            <a:r>
              <a:rPr b="1" lang="en-US" sz="3400" spc="-1" strike="noStrike" u="sng">
                <a:solidFill>
                  <a:srgbClr val="ffffff"/>
                </a:solidFill>
                <a:uFillTx/>
                <a:latin typeface="Garamond"/>
              </a:rPr>
              <a:t>TEAM</a:t>
            </a: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 about the different personalities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lnSpc>
                <a:spcPct val="90000"/>
              </a:lnSpc>
              <a:spcBef>
                <a:spcPts val="85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Form ministry teams with complementary </a:t>
            </a:r>
            <a:r>
              <a:rPr b="1" lang="en-US" sz="3400" spc="-1" strike="noStrike" u="sng">
                <a:solidFill>
                  <a:srgbClr val="ffffff"/>
                </a:solidFill>
                <a:uFillTx/>
                <a:latin typeface="Garamond"/>
              </a:rPr>
              <a:t>STRENGTHS</a:t>
            </a: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 and personalities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lnSpc>
                <a:spcPct val="90000"/>
              </a:lnSpc>
              <a:spcBef>
                <a:spcPts val="85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Lead others from their </a:t>
            </a:r>
            <a:r>
              <a:rPr b="1" lang="en-US" sz="3400" spc="-1" strike="noStrike" u="sng">
                <a:solidFill>
                  <a:srgbClr val="ffffff"/>
                </a:solidFill>
                <a:uFillTx/>
                <a:latin typeface="Garamond"/>
              </a:rPr>
              <a:t>PERSONALITY</a:t>
            </a: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 style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0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-152280"/>
            <a:ext cx="89917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ummary Chart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3581280"/>
            <a:ext cx="9067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320" y="538200"/>
          <a:ext cx="9067680" cy="5937120"/>
        </p:xfrm>
        <a:graphic>
          <a:graphicData uri="http://schemas.openxmlformats.org/drawingml/2006/table">
            <a:tbl>
              <a:tblPr/>
              <a:tblGrid>
                <a:gridCol w="1812960"/>
                <a:gridCol w="1814400"/>
                <a:gridCol w="1812960"/>
                <a:gridCol w="1814400"/>
                <a:gridCol w="1812960"/>
              </a:tblGrid>
              <a:tr h="452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holer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ngu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hlegmat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elanchol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990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1067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960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</a:tbl>
          </a:graphicData>
        </a:graphic>
      </p:graphicFrame>
      <p:sp>
        <p:nvSpPr>
          <p:cNvPr id="127" name="Text Box 82"/>
          <p:cNvSpPr/>
          <p:nvPr/>
        </p:nvSpPr>
        <p:spPr>
          <a:xfrm>
            <a:off x="76320" y="121932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escrip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83"/>
          <p:cNvSpPr/>
          <p:nvPr/>
        </p:nvSpPr>
        <p:spPr>
          <a:xfrm>
            <a:off x="1905120" y="121932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eople mov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84"/>
          <p:cNvSpPr/>
          <p:nvPr/>
        </p:nvSpPr>
        <p:spPr>
          <a:xfrm>
            <a:off x="3733920" y="121932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cognition seek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85"/>
          <p:cNvSpPr/>
          <p:nvPr/>
        </p:nvSpPr>
        <p:spPr>
          <a:xfrm>
            <a:off x="5562720" y="1219320"/>
            <a:ext cx="167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ooperative group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 Box 87"/>
          <p:cNvSpPr/>
          <p:nvPr/>
        </p:nvSpPr>
        <p:spPr>
          <a:xfrm>
            <a:off x="7391520" y="121932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served perfectionis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88"/>
          <p:cNvSpPr/>
          <p:nvPr/>
        </p:nvSpPr>
        <p:spPr>
          <a:xfrm>
            <a:off x="76320" y="39625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Under Pressur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ext Box 89"/>
          <p:cNvSpPr/>
          <p:nvPr/>
        </p:nvSpPr>
        <p:spPr>
          <a:xfrm>
            <a:off x="1981080" y="388620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oss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mpatie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Text Box 90"/>
          <p:cNvSpPr/>
          <p:nvPr/>
        </p:nvSpPr>
        <p:spPr>
          <a:xfrm>
            <a:off x="3809880" y="388620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motiona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ptimistic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 Box 91"/>
          <p:cNvSpPr/>
          <p:nvPr/>
        </p:nvSpPr>
        <p:spPr>
          <a:xfrm>
            <a:off x="5562720" y="388620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lows dow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ulk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ext Box 92"/>
          <p:cNvSpPr/>
          <p:nvPr/>
        </p:nvSpPr>
        <p:spPr>
          <a:xfrm>
            <a:off x="7391520" y="3886200"/>
            <a:ext cx="167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verly critica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ric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Text Box 93"/>
          <p:cNvSpPr/>
          <p:nvPr/>
        </p:nvSpPr>
        <p:spPr>
          <a:xfrm>
            <a:off x="228600" y="308304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asic Styl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Text Box 94"/>
          <p:cNvSpPr/>
          <p:nvPr/>
        </p:nvSpPr>
        <p:spPr>
          <a:xfrm>
            <a:off x="2082960" y="310824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irect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Text Box 95"/>
          <p:cNvSpPr/>
          <p:nvPr/>
        </p:nvSpPr>
        <p:spPr>
          <a:xfrm>
            <a:off x="3848040" y="312120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teract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96"/>
          <p:cNvSpPr/>
          <p:nvPr/>
        </p:nvSpPr>
        <p:spPr>
          <a:xfrm>
            <a:off x="5715000" y="3121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abiliz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 Box 97"/>
          <p:cNvSpPr/>
          <p:nvPr/>
        </p:nvSpPr>
        <p:spPr>
          <a:xfrm>
            <a:off x="7404120" y="31240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autiou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Text Box 98"/>
          <p:cNvSpPr/>
          <p:nvPr/>
        </p:nvSpPr>
        <p:spPr>
          <a:xfrm>
            <a:off x="76320" y="217188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ork Trai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Text Box 99"/>
          <p:cNvSpPr/>
          <p:nvPr/>
        </p:nvSpPr>
        <p:spPr>
          <a:xfrm>
            <a:off x="1905120" y="201780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oal oriented Acts quickl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Text Box 100"/>
          <p:cNvSpPr/>
          <p:nvPr/>
        </p:nvSpPr>
        <p:spPr>
          <a:xfrm>
            <a:off x="3695760" y="2004840"/>
            <a:ext cx="1828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eople orient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nergetic; inspir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ext Box 101"/>
          <p:cNvSpPr/>
          <p:nvPr/>
        </p:nvSpPr>
        <p:spPr>
          <a:xfrm>
            <a:off x="5486400" y="2001960"/>
            <a:ext cx="1828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eam orient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eady work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Text Box 102"/>
          <p:cNvSpPr/>
          <p:nvPr/>
        </p:nvSpPr>
        <p:spPr>
          <a:xfrm>
            <a:off x="7315200" y="2004840"/>
            <a:ext cx="1828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Numbers orient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lans, organiz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Text Box 42"/>
          <p:cNvSpPr/>
          <p:nvPr/>
        </p:nvSpPr>
        <p:spPr>
          <a:xfrm>
            <a:off x="152280" y="472428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onflict Respons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ext Box 43"/>
          <p:cNvSpPr/>
          <p:nvPr/>
        </p:nvSpPr>
        <p:spPr>
          <a:xfrm>
            <a:off x="1981080" y="472428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ttack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44"/>
          <p:cNvSpPr/>
          <p:nvPr/>
        </p:nvSpPr>
        <p:spPr>
          <a:xfrm>
            <a:off x="3733920" y="4724280"/>
            <a:ext cx="182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ries to sell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n backs off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ext Box 45"/>
          <p:cNvSpPr/>
          <p:nvPr/>
        </p:nvSpPr>
        <p:spPr>
          <a:xfrm>
            <a:off x="5638680" y="472428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ends to authori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Text Box 46"/>
          <p:cNvSpPr/>
          <p:nvPr/>
        </p:nvSpPr>
        <p:spPr>
          <a:xfrm>
            <a:off x="7315200" y="472428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ithdraws to prepar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Text Box 57"/>
          <p:cNvSpPr/>
          <p:nvPr/>
        </p:nvSpPr>
        <p:spPr>
          <a:xfrm>
            <a:off x="152280" y="563868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avorite Biblical Wor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58"/>
          <p:cNvSpPr/>
          <p:nvPr/>
        </p:nvSpPr>
        <p:spPr>
          <a:xfrm>
            <a:off x="1905120" y="56707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ruitfu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59"/>
          <p:cNvSpPr/>
          <p:nvPr/>
        </p:nvSpPr>
        <p:spPr>
          <a:xfrm>
            <a:off x="3809880" y="56707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Jo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ext Box 60"/>
          <p:cNvSpPr/>
          <p:nvPr/>
        </p:nvSpPr>
        <p:spPr>
          <a:xfrm>
            <a:off x="5638680" y="56707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eac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Text Box 61"/>
          <p:cNvSpPr/>
          <p:nvPr/>
        </p:nvSpPr>
        <p:spPr>
          <a:xfrm>
            <a:off x="7467480" y="56707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ruth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5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0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6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1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9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4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4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2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5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8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6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1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4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9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4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4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9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4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9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ummary Chart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3581280"/>
            <a:ext cx="9067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76320" y="1009800"/>
          <a:ext cx="9067680" cy="5024160"/>
        </p:xfrm>
        <a:graphic>
          <a:graphicData uri="http://schemas.openxmlformats.org/drawingml/2006/table">
            <a:tbl>
              <a:tblPr/>
              <a:tblGrid>
                <a:gridCol w="1812960"/>
                <a:gridCol w="1814400"/>
                <a:gridCol w="1812960"/>
                <a:gridCol w="1814400"/>
                <a:gridCol w="1812960"/>
              </a:tblGrid>
              <a:tr h="438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holer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ngu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hlegmat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elanchol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1051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</a:tr>
              <a:tr h="1614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</a:tr>
            </a:tbl>
          </a:graphicData>
        </a:graphic>
      </p:graphicFrame>
      <p:sp>
        <p:nvSpPr>
          <p:cNvPr id="160" name="Text Box 42"/>
          <p:cNvSpPr/>
          <p:nvPr/>
        </p:nvSpPr>
        <p:spPr>
          <a:xfrm>
            <a:off x="114480" y="24922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dea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43"/>
          <p:cNvSpPr/>
          <p:nvPr/>
        </p:nvSpPr>
        <p:spPr>
          <a:xfrm>
            <a:off x="1905120" y="2432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enerates idea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44"/>
          <p:cNvSpPr/>
          <p:nvPr/>
        </p:nvSpPr>
        <p:spPr>
          <a:xfrm>
            <a:off x="3809880" y="243216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alks about idea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Text Box 45"/>
          <p:cNvSpPr/>
          <p:nvPr/>
        </p:nvSpPr>
        <p:spPr>
          <a:xfrm>
            <a:off x="5638680" y="24163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oes the wor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Text Box 46"/>
          <p:cNvSpPr/>
          <p:nvPr/>
        </p:nvSpPr>
        <p:spPr>
          <a:xfrm>
            <a:off x="7391520" y="2492280"/>
            <a:ext cx="190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ake sure work is done righ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52"/>
          <p:cNvSpPr/>
          <p:nvPr/>
        </p:nvSpPr>
        <p:spPr>
          <a:xfrm>
            <a:off x="76320" y="4572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asic Fea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53"/>
          <p:cNvSpPr/>
          <p:nvPr/>
        </p:nvSpPr>
        <p:spPr>
          <a:xfrm>
            <a:off x="1905120" y="4572000"/>
            <a:ext cx="1523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eing taken advantage of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Text Box 54"/>
          <p:cNvSpPr/>
          <p:nvPr/>
        </p:nvSpPr>
        <p:spPr>
          <a:xfrm>
            <a:off x="3733920" y="457200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ocial disapprova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Text Box 55"/>
          <p:cNvSpPr/>
          <p:nvPr/>
        </p:nvSpPr>
        <p:spPr>
          <a:xfrm>
            <a:off x="5486400" y="457200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oss of securi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Text Box 56"/>
          <p:cNvSpPr/>
          <p:nvPr/>
        </p:nvSpPr>
        <p:spPr>
          <a:xfrm>
            <a:off x="7391520" y="4587840"/>
            <a:ext cx="190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mperfection/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isorganiza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57"/>
          <p:cNvSpPr/>
          <p:nvPr/>
        </p:nvSpPr>
        <p:spPr>
          <a:xfrm>
            <a:off x="76320" y="35593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hang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58"/>
          <p:cNvSpPr/>
          <p:nvPr/>
        </p:nvSpPr>
        <p:spPr>
          <a:xfrm>
            <a:off x="1981080" y="35593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reates the chang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Text Box 59"/>
          <p:cNvSpPr/>
          <p:nvPr/>
        </p:nvSpPr>
        <p:spPr>
          <a:xfrm>
            <a:off x="3733920" y="3559320"/>
            <a:ext cx="182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ikes to change the chang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Text Box 60"/>
          <p:cNvSpPr/>
          <p:nvPr/>
        </p:nvSpPr>
        <p:spPr>
          <a:xfrm>
            <a:off x="5562720" y="35593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low to chang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61"/>
          <p:cNvSpPr/>
          <p:nvPr/>
        </p:nvSpPr>
        <p:spPr>
          <a:xfrm>
            <a:off x="7391520" y="35593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ust justif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ext Box 52"/>
          <p:cNvSpPr/>
          <p:nvPr/>
        </p:nvSpPr>
        <p:spPr>
          <a:xfrm>
            <a:off x="152280" y="160020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rongly Resis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Text Box 53"/>
          <p:cNvSpPr/>
          <p:nvPr/>
        </p:nvSpPr>
        <p:spPr>
          <a:xfrm>
            <a:off x="1905120" y="1616040"/>
            <a:ext cx="167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ersonal criticis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Text Box 54"/>
          <p:cNvSpPr/>
          <p:nvPr/>
        </p:nvSpPr>
        <p:spPr>
          <a:xfrm>
            <a:off x="3733920" y="1600200"/>
            <a:ext cx="167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ersonal rejec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55"/>
          <p:cNvSpPr/>
          <p:nvPr/>
        </p:nvSpPr>
        <p:spPr>
          <a:xfrm>
            <a:off x="5562720" y="160020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udden, vague chang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ext Box 56"/>
          <p:cNvSpPr/>
          <p:nvPr/>
        </p:nvSpPr>
        <p:spPr>
          <a:xfrm>
            <a:off x="7391520" y="160020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riticism of work and idea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6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6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1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6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1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Garamond"/>
              </a:rPr>
              <a:t>QUESTIONS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Garamond"/>
              </a:rPr>
              <a:t>OR COMMENTS?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3"/>
          <p:cNvSpPr/>
          <p:nvPr/>
        </p:nvSpPr>
        <p:spPr>
          <a:xfrm>
            <a:off x="0" y="347760"/>
            <a:ext cx="9067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Garamond"/>
              </a:rPr>
              <a:t>Million Leaders Mandate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tebook Fi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152280" y="2830680"/>
            <a:ext cx="891540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ading Different Personaliti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ow to Connect with the People Who Follow You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(Lesson 3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30492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The Foundation for This Lesso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spcBef>
                <a:spcPts val="110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People should b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DIFFERENT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spcBef>
                <a:spcPts val="110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here is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VALU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in their difference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spcBef>
                <a:spcPts val="10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heir personalities won’t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HANG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274320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When the leader fails to understand and relate to the different personalities within the organization, problems result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297180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Good Leaders recognize the influence, the personalities, and the spiritual gifts of their people. They READ people, and then they LEAD people.</a:t>
            </a:r>
            <a:br>
              <a:rPr sz="4000"/>
            </a:b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Four Basic Personality Types and How to Spot Them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opular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ANGUIN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want everything to be fun and are energized by peopl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ir work space is a bit messy with clutter and collection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often crave people, activity and conversation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can be self-centered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ir motto is, “Look at Me!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91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Four Basic Personality Types</a:t>
            </a:r>
            <a:br>
              <a:rPr sz="38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i="1" lang="en-US" sz="3300" spc="-1" strike="noStrike">
                <a:solidFill>
                  <a:srgbClr val="ffffff"/>
                </a:solidFill>
                <a:latin typeface="Garamond"/>
              </a:rPr>
              <a:t>perfect</a:t>
            </a: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300" spc="-1" strike="noStrike" u="sng">
                <a:solidFill>
                  <a:srgbClr val="ffffff"/>
                </a:solidFill>
                <a:uFillTx/>
                <a:latin typeface="Garamond"/>
              </a:rPr>
              <a:t>MELANCHOLY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-37944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y think anything worth doing is worth doing right.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-379440">
              <a:spcBef>
                <a:spcPts val="825"/>
              </a:spcBef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ir work space is tidy – everything is in its place.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-379440">
              <a:spcBef>
                <a:spcPts val="825"/>
              </a:spcBef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y are detailed and are energized by thinking.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-379440">
              <a:spcBef>
                <a:spcPts val="825"/>
              </a:spcBef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y often are a bit moody.They can be artistic.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-379440">
              <a:spcBef>
                <a:spcPts val="825"/>
              </a:spcBef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ir motto is, “Please understand me.”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89913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Four Basic Personality Typ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320" y="914040"/>
            <a:ext cx="899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-5119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owerful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HOLERIC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want to be in charge and are strong and are energized by setting goals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ir work space reflects more function than form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want results and want it done their way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can be demanding and impatient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ir motto is, “Do it my way, now!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89913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Four Basic Personality Typ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-76320" y="990360"/>
            <a:ext cx="9220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peaceful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HLEGMAT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y are easy going, peaceful, happy and relax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ir work space is informal and simp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y would rather not be involved if it causes conflic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y may miss deadlines and fail to reach goals because they are in no hur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ir motto is, “What difference will it make?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8T14:47:07Z</dcterms:created>
  <dc:creator>Todd</dc:creator>
  <dc:description/>
  <dc:language>en-US</dc:language>
  <cp:lastModifiedBy>Monte Cyr</cp:lastModifiedBy>
  <dcterms:modified xsi:type="dcterms:W3CDTF">2017-08-10T20:05:09Z</dcterms:modified>
  <cp:revision>80</cp:revision>
  <dc:subject/>
  <dc:title>Million Leaders Mandate</dc:title>
</cp:coreProperties>
</file>