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C72F5-C1FA-4B4E-B2B3-CCE57854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53532-C176-4AD8-A8FC-44EDFE78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4AD9E-06C2-4C4E-AD35-90005E31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6243A-2C31-440A-8B20-29EA9BD8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C1E0-5E48-4101-AD83-62F00CA5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F0C6-98DD-4DA1-B11C-D771B445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17A7-3432-420C-98EB-FE43F82E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119C-97FA-4276-972A-6A6645BD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6CDC-5E6F-41CC-8FAF-12534B2C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44D7-3A3D-4EA7-9C7C-4E765E42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6BA2-9439-4053-B21A-82C68327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12EB2-E256-4F57-815B-2919CF7F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F5FF-713F-4A60-A23F-A20D4DA3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A485-AC96-4D83-BD65-EA9CE07C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1346-DE13-4BFF-88E2-96EE68E1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94DC-E1FA-4E51-A5EF-BF3B263E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206E-9129-43D8-AA01-B04299BF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F2BF0-39B3-4A95-AB12-3AA8BBC4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9272-F95A-47DE-AFFA-59BB3886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CD652-906D-4FB4-84D9-6B503D31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B84A9-AA6E-45DD-8E82-83FE5442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EDB81-3471-4A8C-A431-48A6D200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B6099-CADA-4F5C-8FC3-35104CCB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8A6C3-B8CC-45C5-9972-291E9C89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6794-F6EA-4881-B0DF-7E6E26B78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D283-289B-4D75-A749-C85ED50F0A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971800"/>
            <a:ext cx="91440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The Power of Partnership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ving from Isolation to Cooperation in Your Ministry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152280" y="42372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become secure in their call and their role in marketplace leaders’ l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itiate relationship and partnership with marketplace lead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create places for marketplace leaders to use their gif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allow marketplace leaders to own the ministry by making deci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know and communicate their principles (core values) and vis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challenge marketplace leaders to God’s call on their lives as wel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equip marketplace leaders to become spiritual leaders in their own aren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br>
              <a:rPr sz="24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067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77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The Law of Significance – One is too small a number to achieve something great. 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(John Maxwell)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onathan and David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1 Samuel 18 - 20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VAIL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have any ministry partner for whom I am completely availa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PEND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Am I dependable within the partnerships and relationships I am involv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VULNER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How vulnerable am I willing to become for someone el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ESPONSI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act responsibly and in the best interests of others in my leadership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are built 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US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openness and mutual conce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need a facilitator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ORDINAT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develop in order to accomplish a specific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AS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levant partnerships begin by identify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EED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mong the people to be ser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tnerships are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CES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not a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15228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reat partnerships are even more challenging to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AINTAI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an to st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uitful partnerships are made up of ministries who each have a cle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DENT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ELEBRA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 differences between the minist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sta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OCUS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n the ultimate goals, not immediate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mart partnerships expec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BLEM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plan ahead for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speak into Saul’s life because he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U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is call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FFIR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aul’s complementary role and honor him for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took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ITIA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anointed Saul for the ministry role he was to fulfi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instrumental in Saul receiving a new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A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erve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KE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elping Saul use his spiritual gif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Every Ministry Leader Can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r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5410080"/>
            <a:ext cx="883908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not intimidated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VIOU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f Saul’s conques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speak words of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REC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AY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U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Saul when he fail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confront Saul when he sinned and provide hi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PEC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possess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REDIBIL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call for repentance from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inistry Leader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MUE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U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inistry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ECURIT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arketplace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UBMI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Ministry Leader often envies the layman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CCES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 often envies the Ministry Leader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GNIFICANC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br>
              <a:rPr sz="2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ig enough to attract successful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OUS SPIRI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nable pastors to fulfill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clude laymen 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 they can own the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include pastors in both their finances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LEND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giv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HURCH’S MINIST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give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 GIF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the church’s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IMIDA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DEPEND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can offer one thing that laymen want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ULFILL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can offer one thing that Ministry Leaders need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OURCE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1T00:06:01Z</dcterms:modified>
  <cp:revision>69</cp:revision>
  <dc:subject/>
  <dc:title>Million Leaders Mandate</dc:title>
</cp:coreProperties>
</file>