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B18-59A0-47A6-8049-AE7001B4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142-C9CC-4A30-9137-0B0A41AE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8F7-B870-4F2E-9421-7C55A96A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74E-45EF-48C3-BB11-B1300FAF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09B-7B18-454E-83C0-E43970ED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089-0255-41D7-92AC-34E5525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911-BAF6-451C-A4ED-A68383B0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8F2-85DD-45AB-A8AA-CE867E0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B02-E9C4-4821-A8FC-0ADA100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C65-974E-444E-9CD5-986EF647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188-F4E9-4B72-91A8-9C593D8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360-F138-4AC0-A5CA-B6B2219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CBCE-6C7E-4976-81FD-99DAFC0B9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981080"/>
            <a:ext cx="8450280" cy="4707000"/>
            <a:chOff x="533520" y="1981080"/>
            <a:chExt cx="8450280" cy="4707000"/>
          </a:xfrm>
        </p:grpSpPr>
        <p:sp>
          <p:nvSpPr>
            <p:cNvPr id="42" name=""/>
            <p:cNvSpPr/>
            <p:nvPr/>
          </p:nvSpPr>
          <p:spPr>
            <a:xfrm>
              <a:off x="533520" y="1981080"/>
              <a:ext cx="808812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Using the EvangeCube</a:t>
              </a: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99"/>
                  </a:solidFill>
                  <a:latin typeface="Arial"/>
                </a:rPr>
                <a:t> to Lead a person to Jesus Christ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400800"/>
              <a:ext cx="3878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rinted by JESUS Film Harvest Partners Ministry of the Church of the Nazarene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vangecube and graphics used by permission of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8947080" cy="6888600"/>
            <a:chOff x="-15840" y="0"/>
            <a:chExt cx="8947080" cy="68886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581280" y="0"/>
              <a:ext cx="5349960" cy="68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BELIEVE in Jesus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as your Savior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Romans 10: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penalty of sin is death, but eternal life through Jesus is a free gift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alvation is a gift from God for the person who has faith in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2:8-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at choice will you make? Will you trust in Jesus Christ to be forgiven and have eternal life? Or will you reject Jesus Christ and suffer eternal punishment?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077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k “Would like to trust Jesus right now to be your Savior”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answer is “yes,” continue with this process, otherwise review appropriate concepts listed above to answer questions the person might ha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0"/>
            <a:ext cx="838188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nner’s Pr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d, thank you for loving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I have sinned against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elieve that your Son, Jesus, died on the cross to pay for my sins and that you raised him from the d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now trust only in Jesus for forgiveness from my 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onfess that Jesus is my S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your gift of eternal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ray in Jesus’ name.  A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became a CHIL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of God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:1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became part of the family of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ill help strengthen our relationships with Jesus Chris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Corinthian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ily live in God’s light to enjoy God’s blessing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7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CROSSED fr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death to lif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5:2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hen you trusted Jesus as your Savior, you crossed from death to life.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(Romans 8:1-2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resurrected Jesus gives us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Galatian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fe Jesus gives is abundant and eternal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502200"/>
            <a:ext cx="8724600" cy="5441400"/>
            <a:chOff x="343080" y="502200"/>
            <a:chExt cx="8724600" cy="5441400"/>
          </a:xfrm>
        </p:grpSpPr>
        <p:sp>
          <p:nvSpPr>
            <p:cNvPr id="81" name=""/>
            <p:cNvSpPr/>
            <p:nvPr/>
          </p:nvSpPr>
          <p:spPr>
            <a:xfrm>
              <a:off x="345960" y="502200"/>
              <a:ext cx="764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80"/>
                  </a:solidFill>
                  <a:latin typeface="Arial"/>
                  <a:ea typeface="Times New Roman"/>
                </a:rPr>
                <a:t>Steps for New Followers of Christ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9568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43080" y="1557360"/>
              <a:ext cx="429696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the EvangeCub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in the starting position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back side is thi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age.  Use it to help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w believer grow i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rist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867280"/>
            <a:chOff x="228600" y="457200"/>
            <a:chExt cx="8763120" cy="58672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1752480"/>
              <a:ext cx="440532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951440" y="457200"/>
              <a:ext cx="404028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OVE God and all people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Matthew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e respond to God’s love for us by loving God and each other.   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TUDY the Bible dai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Romans 15:4</a:t>
              </a: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Bible tells us how God wants us to live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Timothy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688240" cy="5867280"/>
            <a:chOff x="228600" y="533520"/>
            <a:chExt cx="868824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609480"/>
              <a:ext cx="4039920" cy="46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PRAY to God continually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hilippians 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wants to have constant conversation with 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Thessalonian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lk to God about both your joys and concer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Ephesians 6:18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533520"/>
            <a:ext cx="8686800" cy="5868720"/>
            <a:chOff x="228600" y="533520"/>
            <a:chExt cx="8686800" cy="5868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685800"/>
              <a:ext cx="403848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MEET regularly with other Christians.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Hebrews 10:25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’ presence is especially evident when believers are togeth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18: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920" y="609480"/>
            <a:ext cx="8839080" cy="5639040"/>
            <a:chOff x="304920" y="609480"/>
            <a:chExt cx="8839080" cy="5639040"/>
          </a:xfrm>
        </p:grpSpPr>
        <p:sp>
          <p:nvSpPr>
            <p:cNvPr id="45" name=""/>
            <p:cNvSpPr/>
            <p:nvPr/>
          </p:nvSpPr>
          <p:spPr>
            <a:xfrm>
              <a:off x="4572000" y="609480"/>
              <a:ext cx="4572000" cy="56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loves you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3:1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ight represents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is perfect and without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Psalm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s us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doesn’t want us to perish, but to have everlasting life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800600" y="685800"/>
              <a:ext cx="4343400" cy="49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Arial"/>
                </a:rPr>
                <a:t>TELL others the good news about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1 Peter 3:15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lways be ready to tell others the good news about Jesu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elp spread the message of Jesus around the worl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19-20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920" y="609480"/>
            <a:ext cx="8610480" cy="5171760"/>
            <a:chOff x="304920" y="609480"/>
            <a:chExt cx="8610480" cy="51717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30492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572000" y="609480"/>
              <a:ext cx="4343400" cy="51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YOU are a sinner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Romans 3:23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figure represents every perso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darkness represents our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n is a willful violation of God’s law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ur sin separates us from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Isaiah 59: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39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died for your sin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Romans 5: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loved us so much that God sent Jesus to earth as a ma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loved us so much that He paid the price for our sins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 John 3:1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379920"/>
            <a:chOff x="0" y="0"/>
            <a:chExt cx="9144000" cy="63799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4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was BURIE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en buried Jesus in a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380280"/>
            <a:chOff x="0" y="0"/>
            <a:chExt cx="9144000" cy="6380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y rolled a huge stone in front of it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ldiers guarded the tomb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7:65-66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52280" y="228600"/>
            <a:ext cx="8763120" cy="6279840"/>
            <a:chOff x="152280" y="228600"/>
            <a:chExt cx="8763120" cy="62798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04920" y="304920"/>
              <a:ext cx="4495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God RAISED Jesus.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1 Corinthians 15:3-4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95680" y="228600"/>
              <a:ext cx="4419720" cy="62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sent an angel to roll away the big stone and the soldiers ran away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od raised Jesus from the dead!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Matthew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on afterward God took Jesus back to heave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Luke 24: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paid the price for our sin and Jesus conquered death.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1Corinthians 15:3-4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3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0000"/>
                  </a:solidFill>
                  <a:latin typeface="Arial"/>
                </a:rPr>
                <a:t>John 14:6</a:t>
              </a:r>
              <a:r>
                <a:rPr b="0" lang="en-US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esus is the only way we can come to God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Act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rough Jesus we can be forgiven of all our sins and be with God forever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Joh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Jesus is the onl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WAY to God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Jus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knowin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about these things is not enough! We must choose to put our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fai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Jesus, to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Jesus to save us from sin.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(Romans 5:1-2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6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0063013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English E-cube PPT</vt:lpwstr>
  </property>
</Properties>
</file>