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12F2-48E0-4E57-A173-CDB28485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6614-6529-4C32-AAD9-D665A025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0455-5A7E-4DF3-96F8-4F6ECEA7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FD1-512B-4304-9619-5994979C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7D7-4CD3-41E6-A29F-8673276B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070-1D97-4C07-B5ED-495B55B9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1C9-5692-451B-9619-EEE92A00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D818-C724-4F11-B7E4-CC242E61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7DC-5BCE-408C-816B-2DBCCF29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398-2EFE-41BB-AFE6-0DED754D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679-F687-4CD3-B8FF-F216161F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C94-2466-4DB4-92EE-7CAB0446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BB24-44D9-43F0-ADD9-4A5266826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81080"/>
            <a:ext cx="8450280" cy="4707000"/>
            <a:chOff x="533520" y="1981080"/>
            <a:chExt cx="8450280" cy="4707000"/>
          </a:xfrm>
        </p:grpSpPr>
        <p:sp>
          <p:nvSpPr>
            <p:cNvPr id="42" name=""/>
            <p:cNvSpPr/>
            <p:nvPr/>
          </p:nvSpPr>
          <p:spPr>
            <a:xfrm>
              <a:off x="533520" y="1981080"/>
              <a:ext cx="8088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Using the EvangeCube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 to Lead a person to Jesus Chris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400800"/>
              <a:ext cx="3878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inted by JESUS Film Harvest Partners Ministry of the Church of the Nazarene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vangecube and graphics used by permission of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8947080" cy="6888600"/>
            <a:chOff x="-15840" y="0"/>
            <a:chExt cx="8947080" cy="6888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81280" y="0"/>
              <a:ext cx="5349960" cy="68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BELIEVE in Jesus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s your Savior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Romans 10: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penalty of sin is death, but eternal life through Jesus is a free gift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vation is a gift from God for the person who has faith in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2:8-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choice will you make? Will you trust in Jesus Christ to be forgiven and have eternal life? Or will you reject Jesus Christ and suffer eternal punishment?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k “Would like to trust Jesus right now to be your Savior”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“yes,” continue with this process, otherwise review appropriate concepts listed above to answer questions the person might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0"/>
            <a:ext cx="83818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nner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, thank you for loving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I have sinned agains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believe that your Son, Jesus, died on the cross to pay for my sins and that you raised him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ow trust only in Jesus for forgiveness from m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Jesus is my S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gift of eter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ay in Jesus’ name.  A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became a CHIL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of God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:1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became part of the family of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ill help strengthen our relationships with Jesus Chris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Corinthian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ily live in God’s light to enjoy God’s blessing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7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CROSSED fr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eath to lif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5:2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crossed from death to life.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(Romans 8:1-2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resurrected Jesus gives us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Galatian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fe Jesus gives is abundant and eternal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502200"/>
            <a:ext cx="8724600" cy="5441400"/>
            <a:chOff x="343080" y="502200"/>
            <a:chExt cx="8724600" cy="5441400"/>
          </a:xfrm>
        </p:grpSpPr>
        <p:sp>
          <p:nvSpPr>
            <p:cNvPr id="81" name=""/>
            <p:cNvSpPr/>
            <p:nvPr/>
          </p:nvSpPr>
          <p:spPr>
            <a:xfrm>
              <a:off x="345960" y="502200"/>
              <a:ext cx="764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teps for New Followers of Chr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9568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43080" y="1557360"/>
              <a:ext cx="42969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the EvangeCub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in the starting position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back side is thi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age.  Use it to help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believer grow 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ris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867280"/>
            <a:chOff x="228600" y="457200"/>
            <a:chExt cx="8763120" cy="58672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44053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51440" y="457200"/>
              <a:ext cx="404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OVE God and all peopl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Matthew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respond to God’s love for us by loving God and each other.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UDY the Bible dai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Romans 15:4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Bible tells us how God wants us to liv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Timothy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688240" cy="5867280"/>
            <a:chOff x="228600" y="533520"/>
            <a:chExt cx="868824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609480"/>
              <a:ext cx="4039920" cy="46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AY to God continual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hilippians 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ants to have constant conversation with 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Thessalonian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lk to God about both your joys and concer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6:18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533520"/>
            <a:ext cx="8686800" cy="5868720"/>
            <a:chOff x="228600" y="533520"/>
            <a:chExt cx="8686800" cy="5868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685800"/>
              <a:ext cx="40384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EET regularly with other Christians.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Hebrews 10:2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’ presence is especially evident when believers are togeth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18: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4920" y="609480"/>
            <a:ext cx="8839080" cy="5639040"/>
            <a:chOff x="304920" y="609480"/>
            <a:chExt cx="8839080" cy="5639040"/>
          </a:xfrm>
        </p:grpSpPr>
        <p:sp>
          <p:nvSpPr>
            <p:cNvPr id="45" name=""/>
            <p:cNvSpPr/>
            <p:nvPr/>
          </p:nvSpPr>
          <p:spPr>
            <a:xfrm>
              <a:off x="4572000" y="609480"/>
              <a:ext cx="457200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loves you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3: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ght represents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is perfect and without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Psalm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s us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doesn’t want us to perish, but to have everlasting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00600" y="685800"/>
              <a:ext cx="4343400" cy="49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ELL others the good news about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1 Peter 3:15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ways be ready to tell others the good news about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elp spread the message of Jesus around the worl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19-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920" y="609480"/>
            <a:ext cx="8610480" cy="5171760"/>
            <a:chOff x="304920" y="609480"/>
            <a:chExt cx="8610480" cy="5171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609480"/>
              <a:ext cx="4343400" cy="51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are a sinner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Romans 3:2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figure represents every perso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darkness represents our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n is a willful violation of God’s law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ur sin separates us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9: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died for your sin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Romans 5: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d us so much that God sent Jesus to earth as a ma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loved us so much that He paid the price for our si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3:1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379920"/>
            <a:chOff x="0" y="0"/>
            <a:chExt cx="9144000" cy="6379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was BURIE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en buried Jesus in a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380280"/>
            <a:chOff x="0" y="0"/>
            <a:chExt cx="9144000" cy="63802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y rolled a huge stone in front of i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ldiers guarded the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5-6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228600"/>
            <a:ext cx="8763120" cy="6279840"/>
            <a:chOff x="152280" y="228600"/>
            <a:chExt cx="8763120" cy="62798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4920" y="304920"/>
              <a:ext cx="4495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RAISED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228600"/>
              <a:ext cx="4419720" cy="62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sent an angel to roll away the big stone and the soldiers ran away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raised Jesus from the dead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on afterward God took Jesus back to heave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Luke 24: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paid the price for our sin and Jesus conquered death.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Corinthians 15:3-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is the only way we can come to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rough Jesus we can be forgiven of all our sins and be with God forev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us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nowin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bout these things is not enough! We must choose to put ou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ai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Jesus,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Jesus to save us from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5:1-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6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0063013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English E-cube PPT</vt:lpwstr>
  </property>
</Properties>
</file>