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E2B9-2C7D-4682-B18E-B9E23450E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A53B-5CF0-44E5-9D4B-2AC45D55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4F5E-A883-4C98-BFE8-E03546519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6EB6-6C4D-487A-BDB6-7D9A2568B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FBE3-8802-40D4-B930-1635CDF5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B8CC-5710-42EF-BE89-BF05C29C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8D8C-54A0-42FD-B19C-5FFDD2EA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16DE-CFD4-4645-B406-2320570A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623C-66B9-49DE-BA7C-12B5A9E1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E123-2AFA-404D-9A06-0B3BB488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F5B9-CE86-4333-86CA-3A0FCFB3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5A1D-1F2E-4272-85C4-161335A8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5252-4025-4437-9349-AC0AA25B6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3520" y="1981080"/>
            <a:ext cx="8450280" cy="4707000"/>
            <a:chOff x="533520" y="1981080"/>
            <a:chExt cx="8450280" cy="4707000"/>
          </a:xfrm>
        </p:grpSpPr>
        <p:sp>
          <p:nvSpPr>
            <p:cNvPr id="42" name=""/>
            <p:cNvSpPr/>
            <p:nvPr/>
          </p:nvSpPr>
          <p:spPr>
            <a:xfrm>
              <a:off x="533520" y="1981080"/>
              <a:ext cx="808812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99"/>
                  </a:solidFill>
                  <a:latin typeface="Arial"/>
                </a:rPr>
                <a:t>Using the EvangeCube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™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4800" spc="-1" strike="noStrike">
                  <a:solidFill>
                    <a:srgbClr val="000099"/>
                  </a:solidFill>
                  <a:latin typeface="Arial"/>
                </a:rPr>
                <a:t> to Lead a person to Jesus Christ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105520" y="6400800"/>
              <a:ext cx="3878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Printed by JESUS Film Harvest Partners Ministry of the Church of the Nazarene.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Evangecube and graphics used by permission of Evangecube International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840" y="0"/>
            <a:ext cx="8947080" cy="6888600"/>
            <a:chOff x="-15840" y="0"/>
            <a:chExt cx="8947080" cy="688860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-1584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581280" y="0"/>
              <a:ext cx="5349960" cy="688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BELIEVE in Jesus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as your Savior.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</a:rPr>
                <a:t>Romans 10: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penalty of sin is death, but eternal life through Jesus is a free gift from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6:2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alvation is a gift from God for the person who has faith in Jesu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Ephesians 2:8-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at choice will you make? Will you trust in Jesus Christ to be forgiven and have eternal life? Or will you reject Jesus Christ and suffer eternal punishment?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990720"/>
            <a:ext cx="8077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sk “Would like to trust Jesus right now to be your Savior”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answer is “yes,” continue with this process, otherwise review appropriate concepts listed above to answer questions the person might h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0"/>
            <a:ext cx="838188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inner’s Pr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, thank you for loving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onfess that I have sinned against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believe that your Son, Jesus, died on the cross to pay for my sins and that you raised him from the d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now trust only in Jesus for forgiveness from my s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onfess that Jesus is my S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 for your gift of eternal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ray in Jesus’ name.  Am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505320" y="76320"/>
              <a:ext cx="5181480" cy="63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You became a CHILD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of God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1:12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en you trusted Jesus as your Savior, you became part of the family of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8: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will help strengthen our relationships with Jesus Christ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Corinthians 1: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aily live in God’s light to enjoy God’s blessing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1:7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0"/>
            <a:ext cx="8991720" cy="6858000"/>
            <a:chOff x="0" y="0"/>
            <a:chExt cx="8991720" cy="685800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581280" y="152280"/>
              <a:ext cx="5410440" cy="50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You CROSSED from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death to life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5:24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en you trusted Jesus as your Savior, you crossed from death to life.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(Romans 8:1-2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resurrected Jesus gives us life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Galatians 2:2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life Jesus gives is abundant and eternal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Joh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43080" y="502200"/>
            <a:ext cx="8724600" cy="5441400"/>
            <a:chOff x="343080" y="502200"/>
            <a:chExt cx="8724600" cy="5441400"/>
          </a:xfrm>
        </p:grpSpPr>
        <p:sp>
          <p:nvSpPr>
            <p:cNvPr id="81" name=""/>
            <p:cNvSpPr/>
            <p:nvPr/>
          </p:nvSpPr>
          <p:spPr>
            <a:xfrm>
              <a:off x="345960" y="502200"/>
              <a:ext cx="7645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80"/>
                  </a:solidFill>
                  <a:latin typeface="Arial"/>
                  <a:ea typeface="Times New Roman"/>
                </a:rPr>
                <a:t>Steps for New Followers of Christ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evancube7" descr=""/>
            <p:cNvPicPr/>
            <p:nvPr/>
          </p:nvPicPr>
          <p:blipFill>
            <a:blip r:embed="rId1"/>
            <a:stretch/>
          </p:blipFill>
          <p:spPr>
            <a:xfrm>
              <a:off x="4495680" y="13716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43080" y="1557360"/>
              <a:ext cx="4296960" cy="24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hen the EvangeCube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s in the starting position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n the back side is this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mage.  Use it to help the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ew believer grow in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rist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228600" y="457200"/>
            <a:ext cx="8763120" cy="5867280"/>
            <a:chOff x="228600" y="457200"/>
            <a:chExt cx="8763120" cy="586728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228600" y="1752480"/>
              <a:ext cx="440532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981080" y="457200"/>
              <a:ext cx="10573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4951440" y="457200"/>
              <a:ext cx="404028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LOVE God and all people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Matthew 22:37-3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e respond to God’s love for us by loving God and each other.  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4:7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28600" y="533520"/>
            <a:ext cx="8778960" cy="5867280"/>
            <a:chOff x="228600" y="533520"/>
            <a:chExt cx="8778960" cy="586728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876920" y="609480"/>
              <a:ext cx="413064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STUDY the Bible daily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Romans 15:4</a:t>
              </a: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Bible tells us how God wants us to live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2 Timothy 3:16-17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9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28600" y="533520"/>
            <a:ext cx="8688240" cy="5867280"/>
            <a:chOff x="228600" y="533520"/>
            <a:chExt cx="8688240" cy="58672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876920" y="609480"/>
              <a:ext cx="4039920" cy="46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PRAY to God continually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Philippians 4:6</a:t>
              </a: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wants to have constant conversation with u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Thessalonians 5:17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alk to God about both your joys and concern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Ephesians 6:18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7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228600" y="533520"/>
            <a:ext cx="8686800" cy="5868720"/>
            <a:chOff x="228600" y="533520"/>
            <a:chExt cx="8686800" cy="58687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876920" y="685800"/>
              <a:ext cx="4038480" cy="32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MEET regularly with other Christians.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Hebrews 10:25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’ presence is especially evident when believers are together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18:20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04920" y="609480"/>
            <a:ext cx="8839080" cy="5639040"/>
            <a:chOff x="304920" y="609480"/>
            <a:chExt cx="8839080" cy="5639040"/>
          </a:xfrm>
        </p:grpSpPr>
        <p:sp>
          <p:nvSpPr>
            <p:cNvPr id="45" name=""/>
            <p:cNvSpPr/>
            <p:nvPr/>
          </p:nvSpPr>
          <p:spPr>
            <a:xfrm>
              <a:off x="4572000" y="609480"/>
              <a:ext cx="4572000" cy="56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GOD loves you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3:1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light represents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1:5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is perfect and without si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Psalm 18:3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loves us!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4:9,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doesn’t want us to perish, but to have everlasting life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2 Peter 3:9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304920" y="1295280"/>
              <a:ext cx="4176720" cy="438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28600" y="533520"/>
            <a:ext cx="8915400" cy="5867280"/>
            <a:chOff x="228600" y="533520"/>
            <a:chExt cx="8915400" cy="586728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800600" y="685800"/>
              <a:ext cx="4343400" cy="49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TELL others the good news about Jesus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1 Peter 3:15</a:t>
              </a:r>
              <a:r>
                <a:rPr b="0" i="1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lways be ready to tell others the good news about Jesu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Acts 1: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elp spread the message of Jesus around the worl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8:19-20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304920" y="609480"/>
            <a:ext cx="8610480" cy="5171760"/>
            <a:chOff x="304920" y="609480"/>
            <a:chExt cx="8610480" cy="517176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304920" y="1219320"/>
              <a:ext cx="417672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572000" y="609480"/>
              <a:ext cx="4343400" cy="51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YOU are a sinner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Romans 3:23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figure represents every perso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Isaiah 53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darkness represents our si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John 3:1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in is a willful violation of God’s law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8:5-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Our sin separates us from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Isaiah 59:2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28600" y="304920"/>
            <a:ext cx="8686800" cy="6248160"/>
            <a:chOff x="228600" y="304920"/>
            <a:chExt cx="8686800" cy="624816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3193920" cy="62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657600" y="304920"/>
              <a:ext cx="5257800" cy="39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died for your sins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Romans 5:8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loved us so much that God sent Jesus to earth as a ma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4: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 loved us so much that He paid the price for our sin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3:16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379920"/>
            <a:chOff x="0" y="0"/>
            <a:chExt cx="9144000" cy="637992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80880" y="4915080"/>
              <a:ext cx="8229600" cy="14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was BURIED.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1 Corinthians 15:3-4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en buried Jesus in a tomb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7:5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380280"/>
            <a:chOff x="0" y="0"/>
            <a:chExt cx="9144000" cy="638028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80880" y="4915080"/>
              <a:ext cx="8229600" cy="14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y rolled a huge stone in front of it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7:6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ldiers guarded the tomb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7:65-66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52280" y="228600"/>
            <a:ext cx="8763120" cy="6279840"/>
            <a:chOff x="152280" y="228600"/>
            <a:chExt cx="8763120" cy="627984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152280" y="1447920"/>
              <a:ext cx="457200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304920" y="304920"/>
              <a:ext cx="44956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God RAISED Jesus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1 Corinthians 15:3-4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95680" y="228600"/>
              <a:ext cx="4419720" cy="62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sent an angel to roll away the big stone and the soldiers ran away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8:2,1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raised Jesus from the dead!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8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on afterward God took Jesus back to heave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Luke 24:50-5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 paid the price for our sin and Jesus conquered death.</a:t>
              </a: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Corinthians 15:3-4)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067680" cy="6858000"/>
            <a:chOff x="0" y="0"/>
            <a:chExt cx="9067680" cy="685800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809880" y="114480"/>
              <a:ext cx="5257800" cy="43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is the onl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WAY to God.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14:6</a:t>
              </a: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 is the only way we can come to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Acts 4:1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rough Jesus we can be forgiven of all our sins and be with God forever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John 6:4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067320" cy="6858000"/>
            <a:chOff x="0" y="0"/>
            <a:chExt cx="9067320" cy="68580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49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809880" y="114120"/>
              <a:ext cx="5257440" cy="34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is the onl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WAY to God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ust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knowing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about these things is not enough! We must choose to put ou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faith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in Jesus, to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trust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Jesus to save us from si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5:1-2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9:33:55Z</dcterms:created>
  <dc:creator>Gloria Wittmer</dc:creator>
  <dc:description/>
  <dc:language>en-US</dc:language>
  <cp:lastModifiedBy>Alissa Monterroso</cp:lastModifiedBy>
  <dcterms:modified xsi:type="dcterms:W3CDTF">2003-11-24T21:26:34Z</dcterms:modified>
  <cp:revision>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40063013</vt:r8>
  </property>
  <property fmtid="{D5CDD505-2E9C-101B-9397-08002B2CF9AE}" pid="3" name="_AuthorEmail">
    <vt:lpwstr>amonterroso@jfhp.org</vt:lpwstr>
  </property>
  <property fmtid="{D5CDD505-2E9C-101B-9397-08002B2CF9AE}" pid="4" name="_AuthorEmailDisplayName">
    <vt:lpwstr>Alissa Monterroso</vt:lpwstr>
  </property>
  <property fmtid="{D5CDD505-2E9C-101B-9397-08002B2CF9AE}" pid="5" name="_EmailSubject">
    <vt:lpwstr>English E-cube PPT</vt:lpwstr>
  </property>
</Properties>
</file>